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AD5-2913-4BCA-B4C1-9574C83E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F2B-73B9-4AE3-9F61-F3C6D7C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1BD-3F62-44FC-998C-55B5F16D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B2C-6867-4C02-8AAF-EF9D42C2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8B7-6424-48BB-9792-8309CD3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B69-1A2A-48E9-9EF6-1BF5B15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DD0-4309-4A8A-AD8C-6AA6DF5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6E3-3545-4FF5-BA17-DE42959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1EE-A94C-4C68-B60F-08B5947B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19E-CCE5-4569-BAF5-54C97F1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2BA-1F72-4A51-8485-9C731B8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F48-7AC6-4388-B3A6-5BFE03B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18F-92D8-40FE-8D04-7B3F9DE3F1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8160" y="980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XVI. seminář o filosofických otázkách matematiky a fyziky</a:t>
            </a:r>
            <a:br>
              <a:rPr sz="4000"/>
            </a:b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lké Meziříčí, 20. – 23. 8.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4" descr=""/>
          <p:cNvPicPr/>
          <p:nvPr/>
        </p:nvPicPr>
        <p:blipFill>
          <a:blip r:embed="rId1"/>
          <a:srcRect l="0" t="0" r="50675" b="0"/>
          <a:stretch/>
        </p:blipFill>
        <p:spPr>
          <a:xfrm>
            <a:off x="2925720" y="4292640"/>
            <a:ext cx="3132360" cy="139680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2" descr=""/>
          <p:cNvPicPr/>
          <p:nvPr/>
        </p:nvPicPr>
        <p:blipFill>
          <a:blip r:embed="rId2"/>
          <a:stretch/>
        </p:blipFill>
        <p:spPr>
          <a:xfrm>
            <a:off x="4095720" y="476280"/>
            <a:ext cx="9651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1280" y="2060280"/>
            <a:ext cx="7416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d roku 1910 přednášel a vedl Ústav teoretické fyziky za nemocného prof. Koláč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12-svatba s Mikou Škodovou z mlynářské rodiny Škodů (…, Jan Čermák), 1914 umírá první syn, 1919 druhý syn, </a:t>
            </a:r>
            <a:r>
              <a:rPr b="1" lang="cs-CZ" sz="2200" spc="-1" strike="noStrike">
                <a:solidFill>
                  <a:srgbClr val="e94e00"/>
                </a:solidFill>
                <a:latin typeface="Calibri"/>
              </a:rPr>
              <a:t>citát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70c0"/>
                </a:solidFill>
                <a:latin typeface="Calibri"/>
              </a:rPr>
              <a:t>1911-1912 A. Einstein profesorem na německé části Karlo-Ferdinandovy univerzity v Pra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14 – mimořádný profesor, 1919 řádný profesor a ředitel Ústavu teoretické fyzi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27/28 děkan Přírodovědecké fakulty U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41 – měl se stát rektorem U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21. 1. 1944 zatčen (Mauthause, Osterod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7. 4. 1945 – zemřel v Gifhornu v Německu, </a:t>
            </a:r>
            <a:r>
              <a:rPr b="1" lang="cs-CZ" sz="2200" spc="-1" strike="noStrike">
                <a:solidFill>
                  <a:srgbClr val="e94e00"/>
                </a:solidFill>
                <a:latin typeface="Calibri"/>
              </a:rPr>
              <a:t>citát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ázek 2" descr=""/>
          <p:cNvPicPr/>
          <p:nvPr/>
        </p:nvPicPr>
        <p:blipFill>
          <a:blip r:embed="rId1"/>
          <a:stretch/>
        </p:blipFill>
        <p:spPr>
          <a:xfrm>
            <a:off x="4154400" y="449280"/>
            <a:ext cx="9111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mátník a pamětní de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ástupný symbol pro obsah 3" descr=""/>
          <p:cNvPicPr/>
          <p:nvPr/>
        </p:nvPicPr>
        <p:blipFill>
          <a:blip r:embed="rId1"/>
          <a:srcRect l="9642" t="11824" r="10359" b="22954"/>
          <a:stretch/>
        </p:blipFill>
        <p:spPr>
          <a:xfrm>
            <a:off x="611280" y="2492280"/>
            <a:ext cx="4599000" cy="3380040"/>
          </a:xfrm>
          <a:prstGeom prst="rect">
            <a:avLst/>
          </a:prstGeom>
          <a:ln w="44280">
            <a:solidFill>
              <a:srgbClr val="e94e00"/>
            </a:solidFill>
            <a:miter/>
          </a:ln>
        </p:spPr>
      </p:pic>
      <p:pic>
        <p:nvPicPr>
          <p:cNvPr id="75" name="Zástupný symbol pro obsah 3" descr=""/>
          <p:cNvPicPr/>
          <p:nvPr/>
        </p:nvPicPr>
        <p:blipFill>
          <a:blip r:embed="rId2"/>
          <a:stretch/>
        </p:blipFill>
        <p:spPr>
          <a:xfrm>
            <a:off x="5522760" y="2041560"/>
            <a:ext cx="2859120" cy="40608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2" descr=""/>
          <p:cNvPicPr/>
          <p:nvPr/>
        </p:nvPicPr>
        <p:blipFill>
          <a:blip r:embed="rId3"/>
          <a:stretch/>
        </p:blipFill>
        <p:spPr>
          <a:xfrm>
            <a:off x="4021200" y="333360"/>
            <a:ext cx="9507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1628640"/>
            <a:ext cx="76993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0880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dborná činno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řednášky na univerzitě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řazoval obory, které prof. Koláček příliš nemiloval: kinetická teorie tepla (plynů), později speciální a obecnou relativitu a zachytil i nástup kvantové (vlnové) mechani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94e00"/>
                </a:solidFill>
                <a:latin typeface="Calibri"/>
              </a:rPr>
              <a:t>         </a:t>
            </a: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Prof. Brdičk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Záviškovy přednášky byly logické, promyšlené, klidn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přednesené s případným zopakováním a zdůrazněním hlavních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myšlenek, bylo v nich předem odpovídáno na možné chyby, prost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byly dokonalé. Také se netajil tím, že se na ně připravu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ědecká práce: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vní práce z optiky, hlavním tématem byla problematika šíření elmag. vln v soustavách vodivých válců a dielektrik, řešená pomocí Maxwellových rovni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ferativní práce, 3 učebnice 1 populárně- vědecká knížka, překl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nihy Ph. Franka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Rozvrat mechanistické fysiky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, referáty, recenze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2" descr=""/>
          <p:cNvPicPr/>
          <p:nvPr/>
        </p:nvPicPr>
        <p:blipFill>
          <a:blip r:embed="rId1"/>
          <a:stretch/>
        </p:blipFill>
        <p:spPr>
          <a:xfrm>
            <a:off x="3995640" y="449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1628640"/>
            <a:ext cx="76993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0880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alibri"/>
              </a:rPr>
              <a:t>Byl člene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rálovské české společnosti nauk, České Akademie věd a umění, Masarykovy Akademie práce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ČMF: od roku 1904 funkcionář, 1928-1942 knihovník (knihovnu vybudoval a vedl v prostorách svého ústavu), 1942- předse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dakční rady sborníku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Přehled pokroků fysiky: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naha pozvednutí úrovně naší fyziky – referování o významných fyzikálních pracích ve svět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lečenský živo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Prof. Brdičk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Na vysvědčení z oktávy má Záviška dostatečnou z tělocviku, ale není možno jej označit za nesportovní typ. Hrál tenis on i jeho choť, plaval, jezdil na koni, jezdil na lyžích, byl zdatným turistou; konečně i rád jezdil autem …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lety se studenty a s kolegy, „nejstudenštější docent“, bohatý společenský život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ázek 2" descr=""/>
          <p:cNvPicPr/>
          <p:nvPr/>
        </p:nvPicPr>
        <p:blipFill>
          <a:blip r:embed="rId1"/>
          <a:stretch/>
        </p:blipFill>
        <p:spPr>
          <a:xfrm>
            <a:off x="3995640" y="449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590040"/>
            <a:ext cx="82198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ularizace TR: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A. Einstein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 německé vydání 1917, první české 1923, první úplné české 2005,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F. Záviš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 192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716360" y="2089080"/>
            <a:ext cx="2797200" cy="4440240"/>
          </a:xfrm>
          <a:prstGeom prst="rect">
            <a:avLst/>
          </a:prstGeom>
          <a:ln w="0">
            <a:noFill/>
          </a:ln>
        </p:spPr>
      </p:pic>
      <p:pic>
        <p:nvPicPr>
          <p:cNvPr id="85" name="Zástupný symbol pro obsah 5" descr=""/>
          <p:cNvPicPr/>
          <p:nvPr/>
        </p:nvPicPr>
        <p:blipFill>
          <a:blip r:embed="rId2"/>
          <a:srcRect l="12800" t="1367" r="23876" b="9311"/>
          <a:stretch/>
        </p:blipFill>
        <p:spPr>
          <a:xfrm>
            <a:off x="1116000" y="2060640"/>
            <a:ext cx="2627280" cy="4464000"/>
          </a:xfrm>
          <a:prstGeom prst="rect">
            <a:avLst/>
          </a:prstGeom>
          <a:ln w="0">
            <a:noFill/>
          </a:ln>
        </p:spPr>
      </p:pic>
      <p:pic>
        <p:nvPicPr>
          <p:cNvPr id="86" name="Zástupný symbol pro obsah 5" descr=""/>
          <p:cNvPicPr/>
          <p:nvPr/>
        </p:nvPicPr>
        <p:blipFill>
          <a:blip r:embed="rId3"/>
          <a:srcRect l="12800" t="1367" r="23876" b="9311"/>
          <a:stretch/>
        </p:blipFill>
        <p:spPr>
          <a:xfrm>
            <a:off x="5219640" y="1916280"/>
            <a:ext cx="2629080" cy="4464000"/>
          </a:xfrm>
          <a:prstGeom prst="rect">
            <a:avLst/>
          </a:prstGeom>
          <a:ln w="0">
            <a:noFill/>
          </a:ln>
        </p:spPr>
      </p:pic>
      <p:pic>
        <p:nvPicPr>
          <p:cNvPr id="87" name="Zástupný symbol pro obsah 5" descr=""/>
          <p:cNvPicPr/>
          <p:nvPr/>
        </p:nvPicPr>
        <p:blipFill>
          <a:blip r:embed="rId4"/>
          <a:srcRect l="12800" t="1367" r="23876" b="9311"/>
          <a:stretch/>
        </p:blipFill>
        <p:spPr>
          <a:xfrm>
            <a:off x="4788000" y="1916280"/>
            <a:ext cx="2628720" cy="446400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2" descr=""/>
          <p:cNvPicPr/>
          <p:nvPr/>
        </p:nvPicPr>
        <p:blipFill>
          <a:blip r:embed="rId5"/>
          <a:stretch/>
        </p:blipFill>
        <p:spPr>
          <a:xfrm>
            <a:off x="4140360" y="189000"/>
            <a:ext cx="8856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Nadpis 1" descr=""/>
          <p:cNvPicPr/>
          <p:nvPr/>
        </p:nvPicPr>
        <p:blipFill>
          <a:blip r:embed="rId1"/>
          <a:stretch/>
        </p:blipFill>
        <p:spPr>
          <a:xfrm>
            <a:off x="1809720" y="1390680"/>
            <a:ext cx="5456160" cy="1461960"/>
          </a:xfrm>
          <a:prstGeom prst="rect">
            <a:avLst/>
          </a:prstGeom>
          <a:ln w="0">
            <a:noFill/>
          </a:ln>
        </p:spPr>
      </p:pic>
      <p:pic>
        <p:nvPicPr>
          <p:cNvPr id="90" name="Zástupný symbol pro obsah 4" descr=""/>
          <p:cNvPicPr/>
          <p:nvPr/>
        </p:nvPicPr>
        <p:blipFill>
          <a:blip r:embed="rId2"/>
          <a:srcRect l="18555" t="29846" r="9212" b="38292"/>
          <a:stretch/>
        </p:blipFill>
        <p:spPr>
          <a:xfrm>
            <a:off x="1692360" y="2708280"/>
            <a:ext cx="5702040" cy="3720960"/>
          </a:xfrm>
          <a:prstGeom prst="rect">
            <a:avLst/>
          </a:prstGeom>
          <a:ln w="0">
            <a:noFill/>
          </a:ln>
        </p:spPr>
      </p:pic>
      <p:pic>
        <p:nvPicPr>
          <p:cNvPr id="91" name="Obrázek 2" descr=""/>
          <p:cNvPicPr/>
          <p:nvPr/>
        </p:nvPicPr>
        <p:blipFill>
          <a:blip r:embed="rId3"/>
          <a:stretch/>
        </p:blipFill>
        <p:spPr>
          <a:xfrm>
            <a:off x="4211640" y="291960"/>
            <a:ext cx="87480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ázek 2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874800" cy="874800"/>
          </a:xfrm>
          <a:prstGeom prst="rect">
            <a:avLst/>
          </a:prstGeom>
          <a:ln w="0">
            <a:noFill/>
          </a:ln>
        </p:spPr>
      </p:pic>
      <p:pic>
        <p:nvPicPr>
          <p:cNvPr id="93" name="Obrázek 2" descr=""/>
          <p:cNvPicPr/>
          <p:nvPr/>
        </p:nvPicPr>
        <p:blipFill>
          <a:blip r:embed="rId2"/>
          <a:srcRect l="2454" t="10371" r="6232" b="9892"/>
          <a:stretch/>
        </p:blipFill>
        <p:spPr>
          <a:xfrm>
            <a:off x="1628640" y="2448000"/>
            <a:ext cx="523728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Nadpis 1"/>
          <p:cNvSpPr/>
          <p:nvPr/>
        </p:nvSpPr>
        <p:spPr>
          <a:xfrm>
            <a:off x="620640" y="1351080"/>
            <a:ext cx="7772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incip ekvivalence setrvačný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 gravitační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00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áviškův spolužák z třebíčského gymnázia: </a:t>
            </a:r>
            <a:r>
              <a:rPr b="1" lang="cs-CZ" sz="2600" spc="-1" strike="noStrike">
                <a:solidFill>
                  <a:srgbClr val="0070c0"/>
                </a:solidFill>
                <a:latin typeface="Calibri"/>
              </a:rPr>
              <a:t>Jakub De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alibri"/>
              </a:rPr>
              <a:t>Autorské, Invenční Divadlo Studentů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2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920520" cy="92232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obsah 2"/>
          <p:cNvSpPr/>
          <p:nvPr/>
        </p:nvSpPr>
        <p:spPr>
          <a:xfrm>
            <a:off x="971640" y="3521160"/>
            <a:ext cx="6769080" cy="1368360"/>
          </a:xfrm>
          <a:prstGeom prst="rect">
            <a:avLst/>
          </a:prstGeom>
          <a:solidFill>
            <a:srgbClr val="e9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Hudebně dramatické pásmo výňatků z díla tasovského rodáka, spisovatele a básníka Jakuba Dem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Informace k progra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7777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seminární brožur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– stravování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borníky, označení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plnění: úterý odpoledne : Mgr. Linda Štraubová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EZ pro šk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ek 2" descr=""/>
          <p:cNvPicPr/>
          <p:nvPr/>
        </p:nvPicPr>
        <p:blipFill>
          <a:blip r:embed="rId1"/>
          <a:stretch/>
        </p:blipFill>
        <p:spPr>
          <a:xfrm>
            <a:off x="4095720" y="558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ress_centrum_ke_stazeni_logo_cez"/>
          <p:cNvPicPr/>
          <p:nvPr/>
        </p:nvPicPr>
        <p:blipFill>
          <a:blip r:embed="rId2"/>
          <a:stretch/>
        </p:blipFill>
        <p:spPr>
          <a:xfrm>
            <a:off x="6773760" y="4292640"/>
            <a:ext cx="9604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715920"/>
            <a:ext cx="83008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vity and Gravitatio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 Years after Einstein in Prag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25 – 29, 2012, Prague, Czech Republic</a:t>
            </a:r>
            <a:br>
              <a:rPr sz="2800"/>
            </a:br>
            <a:r>
              <a:rPr b="1" lang="cs-CZ" sz="2800" spc="-1" strike="noStrike">
                <a:solidFill>
                  <a:srgbClr val="e94e00"/>
                </a:solidFill>
                <a:latin typeface="Calibri"/>
              </a:rPr>
              <a:t>doprovodný program: výstava,…</a:t>
            </a:r>
            <a:r>
              <a:rPr b="0" lang="en-US" sz="2800" spc="-1" strike="noStrike">
                <a:solidFill>
                  <a:srgbClr val="e94e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186228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2" descr=""/>
          <p:cNvPicPr/>
          <p:nvPr/>
        </p:nvPicPr>
        <p:blipFill>
          <a:blip r:embed="rId2"/>
          <a:stretch/>
        </p:blipFill>
        <p:spPr>
          <a:xfrm>
            <a:off x="4130640" y="466560"/>
            <a:ext cx="954000" cy="9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Kubistický nábytek ve sbírkách 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Muzea Velké Meziříč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"/>
          <p:cNvPicPr/>
          <p:nvPr/>
        </p:nvPicPr>
        <p:blipFill>
          <a:blip r:embed="rId1"/>
          <a:srcRect l="35188" t="18022" r="6484" b="37771"/>
          <a:stretch/>
        </p:blipFill>
        <p:spPr>
          <a:xfrm>
            <a:off x="2124000" y="1573200"/>
            <a:ext cx="453564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2" descr=""/>
          <p:cNvPicPr/>
          <p:nvPr/>
        </p:nvPicPr>
        <p:blipFill>
          <a:blip r:embed="rId2"/>
          <a:stretch/>
        </p:blipFill>
        <p:spPr>
          <a:xfrm>
            <a:off x="3995640" y="439560"/>
            <a:ext cx="963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74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ábytek pochází z roku 1913, byl zhotoven pražským družstvem Artěl podle návrhu Pavla Janáka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lekce nábytku byla vyrobena pro </a:t>
            </a:r>
            <a:br>
              <a:rPr sz="2800"/>
            </a:br>
            <a:r>
              <a:rPr b="1" lang="cs-CZ" sz="2800" spc="-1" strike="noStrike">
                <a:solidFill>
                  <a:srgbClr val="e94e00"/>
                </a:solidFill>
                <a:latin typeface="Calibri"/>
              </a:rPr>
              <a:t>Františka Závišku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 jeho ženu Milku.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4137120" y="476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22440" cy="475308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4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587760" cy="5057640"/>
          </a:xfrm>
          <a:prstGeom prst="rect">
            <a:avLst/>
          </a:prstGeom>
          <a:ln w="0">
            <a:noFill/>
          </a:ln>
        </p:spPr>
      </p:pic>
      <p:pic>
        <p:nvPicPr>
          <p:cNvPr id="58" name="Obrázek 2" descr=""/>
          <p:cNvPicPr/>
          <p:nvPr/>
        </p:nvPicPr>
        <p:blipFill>
          <a:blip r:embed="rId3"/>
          <a:stretch/>
        </p:blipFill>
        <p:spPr>
          <a:xfrm>
            <a:off x="4095720" y="244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4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4" descr=""/>
          <p:cNvPicPr/>
          <p:nvPr/>
        </p:nvPicPr>
        <p:blipFill>
          <a:blip r:embed="rId1"/>
          <a:srcRect l="28382" t="6306" r="8813" b="9918"/>
          <a:stretch/>
        </p:blipFill>
        <p:spPr>
          <a:xfrm>
            <a:off x="971640" y="2133720"/>
            <a:ext cx="3324240" cy="4560840"/>
          </a:xfrm>
          <a:prstGeom prst="rect">
            <a:avLst/>
          </a:prstGeom>
          <a:ln w="0">
            <a:noFill/>
          </a:ln>
        </p:spPr>
      </p:pic>
      <p:pic>
        <p:nvPicPr>
          <p:cNvPr id="61" name="Zástupný symbol pro obsah 5" descr=""/>
          <p:cNvPicPr/>
          <p:nvPr/>
        </p:nvPicPr>
        <p:blipFill>
          <a:blip r:embed="rId2"/>
          <a:srcRect l="12800" t="1367" r="23876" b="9311"/>
          <a:stretch/>
        </p:blipFill>
        <p:spPr>
          <a:xfrm>
            <a:off x="5219640" y="1916280"/>
            <a:ext cx="262908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Obrázek 2" descr=""/>
          <p:cNvPicPr/>
          <p:nvPr/>
        </p:nvPicPr>
        <p:blipFill>
          <a:blip r:embed="rId3"/>
          <a:stretch/>
        </p:blipFill>
        <p:spPr>
          <a:xfrm>
            <a:off x="4029120" y="312840"/>
            <a:ext cx="9046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560" y="1628280"/>
            <a:ext cx="77724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79-1945 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280" y="2637000"/>
            <a:ext cx="7088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1879 Velké Meziříčí,  syn pololání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1891 otec zemřel, matka se podruhé vdala, pomáhal mu strýc fará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tudium na gymnáziu v Třebíči, spolužáci B. Šmeral a </a:t>
            </a:r>
            <a:r>
              <a:rPr b="1" lang="cs-CZ" sz="2600" spc="-1" strike="noStrike">
                <a:solidFill>
                  <a:srgbClr val="0070c0"/>
                </a:solidFill>
                <a:latin typeface="Calibri"/>
              </a:rPr>
              <a:t>J. Deml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cs-CZ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roč nestudoval na GV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1898 maturoval na gymn. v Brně, spolužák B. Macků, zahájení studia M a F na filosof. fakult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české části Karlo-Ferdinandovy univerz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ek 2" descr=""/>
          <p:cNvPicPr/>
          <p:nvPr/>
        </p:nvPicPr>
        <p:blipFill>
          <a:blip r:embed="rId1"/>
          <a:stretch/>
        </p:blipFill>
        <p:spPr>
          <a:xfrm>
            <a:off x="3995640" y="449280"/>
            <a:ext cx="9828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8454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Prof. Dr. František Záviška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2268000"/>
            <a:ext cx="70880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00 – při vysokoškolském studiu odchází do Brna na nově založenou českou techniku (VUT Brno) jako asistent prof. Koláč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02 skládá státní zkoušky učitelské způsobilosti z matematiky a fyziky, 1903 končí vysokoškolské studium doktorá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03 – výpomocný asistent na experimentální fyzice u prof. Strouhala, 1906 – habilit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1906/7- vědecká stáž v Cavendishově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laboratoři  v Cambridgi u J. J. Thoms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 C. T. R. Wils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rázek 2" descr=""/>
          <p:cNvPicPr/>
          <p:nvPr/>
        </p:nvPicPr>
        <p:blipFill>
          <a:blip r:embed="rId1"/>
          <a:stretch/>
        </p:blipFill>
        <p:spPr>
          <a:xfrm>
            <a:off x="3995640" y="4492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2" descr=""/>
          <p:cNvPicPr/>
          <p:nvPr/>
        </p:nvPicPr>
        <p:blipFill>
          <a:blip r:embed="rId2"/>
          <a:srcRect l="57961" t="31509" r="13383" b="17641"/>
          <a:stretch/>
        </p:blipFill>
        <p:spPr>
          <a:xfrm>
            <a:off x="6367320" y="4533840"/>
            <a:ext cx="1548000" cy="1584360"/>
          </a:xfrm>
          <a:prstGeom prst="rect">
            <a:avLst/>
          </a:prstGeom>
          <a:ln w="38160">
            <a:solidFill>
              <a:srgbClr val="e94e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15:03:30Z</dcterms:created>
  <dc:creator>Trojánek</dc:creator>
  <dc:description/>
  <dc:language>en-US</dc:language>
  <cp:lastModifiedBy>Pavel Dvořák</cp:lastModifiedBy>
  <cp:lastPrinted>2012-08-18T15:31:44Z</cp:lastPrinted>
  <dcterms:modified xsi:type="dcterms:W3CDTF">2012-08-21T05:50:29Z</dcterms:modified>
  <cp:revision>69</cp:revision>
  <dc:subject/>
  <dc:title>XVI. seminář o filosofických otázkách matematiky a fyziky</dc:title>
</cp:coreProperties>
</file>