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332A-A329-442B-B27B-9CC1FD8E6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130A-6C2B-4B9A-A228-353897A3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88F2-F11F-4991-86CB-4F8CD26BA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E7D7-A74D-4896-8876-F9F30888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D34D-5C55-4C97-934D-7DE889E2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D102-3AE3-4208-94BB-E02730B5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3333-B8FA-4997-8837-72A0F9F6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2687-DA3F-4667-924B-0775935A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BEAC-9DC4-4CE9-91C0-8BD328F6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C459-D299-4DA8-9FE1-515EB015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870C-572E-4C0D-BD68-4851083A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BBEF-BF4A-41B2-8172-DF2A19C2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B0C4-2B6B-425C-82A6-A7608A19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1F2F-5DCA-49D6-B9AC-276364E9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3915-6EBD-4B7B-ACB0-AC45B646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E1A0-4B21-4F69-BC1F-57B2A3BF7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A7B1-921C-4CF6-A735-10A285AE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B75E3-7887-4BD1-B802-185C60CF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5F882B-289A-4F9B-B4CC-10CBA45A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A74D60-4FC7-4E2D-B361-E7347A21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226B36-4A7D-429D-AE8F-096C21BE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64787C-D98F-4C49-B641-F60DA13F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C75B-49AD-4332-8590-6EDE9BA0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7C456D-2841-436C-8981-AEB2F406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10F9C1-9B4B-4D66-BAB9-5420B01C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13D6D4-7589-4F5C-86D2-89818ADB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97EDE8-1649-45BA-8140-633A2C86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42C64A-5469-4551-BA2D-6755BCCF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C96CA4-EDCB-41EC-AB30-E2DAAD24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1F111B-2A54-4BBB-BC1F-13EE0CA6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B4C70-C90F-40B0-976C-5BF29C62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74B41-6122-41DC-8394-D2FD601E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706BC-1BA8-48BD-9584-52CBA96D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58E1-AF88-4429-9B6F-3E933E01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3F054-750A-4022-8632-A08BD807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FC525-8D5C-4F20-8F81-68771E7D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8344B-5F9B-4D64-AC62-1EF81AEB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AFF07-D3AD-4CB2-8950-66E48291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2856C-814B-4090-9308-C29A3B9B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7E7B0-1F17-48F6-B3E3-F30C6E65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B42C4-0E9E-4083-9AF9-15FC73E8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2E6FA-812C-4B1F-A86B-CAB4F97C0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33440-17E8-414B-AF51-E5A3A9C65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9638C8-0CD8-476E-84FF-71868713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99BF-0A47-4048-936B-3CD3251F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B4CF4A-2209-43CE-82DD-3919D891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08881B-A42F-4810-8849-BF30F88B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345327-0D7B-499D-A341-B31BA5DC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2D522F-5BED-4860-9B60-D30A1DF6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11D224-DC35-43A5-AA79-EE90CBD8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BF2C88-4975-4CD6-AFAE-DD4502C0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3D8D90-4155-48DE-ABD7-72F57B6C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975AA9-F4CF-447D-907D-CCB5AC32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01B4AA-F1AE-4880-B651-A5FCA7A9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4D4DBD-26A8-413C-817F-EB419183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F5E5-D148-4633-91A5-292F43F2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E12FAA-BE81-4AB7-83DA-0FC79C62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495241-B149-4181-BA68-7C564124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C13550-BD33-4542-9DBB-A6B9ACFC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B9431D-8551-4840-8C07-37FD8230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05A80B-1833-4A94-B50A-11131D93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E0D89D-ABEC-4A9D-B60E-9B60354B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CA9A9D-C1D4-454E-9CCE-6EBA65F0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057442-092D-45AD-9D94-EC8FF4E6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82D23F-2352-42E8-A79A-E3F6BFA0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018BE2-81A4-4C95-8383-54CFF92B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6113-FE94-41C5-9156-AF3FA582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2C7402-72EB-4D85-B008-86F955D2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4489CE-214E-4BBA-9E52-F613A490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4A2D63-F1A5-447C-AFA2-5FFC1099E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9AFC4A-7682-4708-9D33-A60999BC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0A88AD-F7F9-4583-A8CE-871ABE37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9D7F17-1B62-474B-8AD1-C69F7419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E500AE-350E-4E8A-B09C-54DE2B19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BD5576-30D7-4CF6-ADC6-AF52536C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FD0757-CA1F-4502-A04A-3D47C604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F7D5D1-9D6E-4F5E-8E43-CD75479C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6923-8399-4B2E-BEB1-985109F3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C53348-B817-4431-9B84-876E452C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B25231-68FE-4B51-8E92-CAFB6E14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2F7761-987E-46D7-8945-14B3E1AA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A32238-08DB-4D15-8BF4-BF496B22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E6C7D6-8E91-422A-B77D-EEDEA94F1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4AFD-7F28-4BED-B421-062F96D9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5028-2D62-4A6C-8AD5-846B13040860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římá spojovací čára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a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a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a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D99A-EF82-4CEF-B9E8-8B618550E6F3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72EA-DFCA-4937-A9C8-9DB663928EAB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a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a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a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a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a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římá spojovací čára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33B0-7331-49E2-8B02-F035E70F4904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6738-69BA-4509-B067-F6A672AFC11F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římá spojovací čára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římá spojovací čára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a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A588-DF4A-4F42-82C3-7289AA45A27A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a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římá spojovací čára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bdélník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římá spojovací čára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římá spojovací čára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římá spojovací čára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33DD-70FB-4B3F-8995-3893B519B0E8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VÝZNAM ŠKOLY JAKO INSTITUCE V SOUČASNÉ SPOLEČNOSTI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Stanislav Štech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UK-PedF v Praz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NEVINNÝ SYMPTOM?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polovině 90. let se poprvé objevila debata kolem zdánlivě formálního detailu. Diskuse v rámci přípravy nového školského zákona (nakonec přijat až v r. 2004) se týkala také formulace „povinná školní docházka“. Odpůrci argumentovali tím, že povinné by mělo být pouze vzdělávání a že ze zákona je nutno vymazat adjektivum „školní“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zkaz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výchova a vzdělání se dá dosahovat stejně kvalitně i jinými formami, mimo instituci školy; všechny formy jsou si rovné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cs-CZ" sz="25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DIVERZIFIKACE - EROZE MONOPOLU ŠKOLNÍ</a:t>
            </a:r>
            <a:r>
              <a:rPr b="0" lang="cs-CZ" sz="25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</a:t>
            </a:r>
            <a:r>
              <a:rPr b="1" lang="cs-CZ" sz="25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FORMY VZDĚLÁVÁNÍ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ěny školního vzdělávání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kturálně organizační (alternativy, školy hrou, domácí vzdělávání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dagogické (projektové vyučování, slovní hodnocení, kompetence, výstupy z učení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ní (pokusy zkrátit VŠ přípravu, důraz na charisma a učení praxí, podceňování teorie, alternativní modely profesionalizace: Bc + kurs, rekvalifikační kurzy pro VŠ neučitelských oborů; nahrazení studia praxí delší než x let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zifikace – žádoucí rozšíření nabídky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KRITIKA ŠKOLY ZLEVA PŘIPRAVILA JEJÍ NEOLIBERÁLNÍ TRANSFORMACI 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tika škola zleva i zpra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škola jako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marke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abídka šitá na míru (= vstup všech do vysoké kultury = sociální vzestup) + individualistické fantasma (tvořivost, jedinečnost). Výsledek – teatralizace pedagogiky a vícekolejný diferencialistický systém + zvýšená neefektivnost (USA 80.léta), pro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škola jako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nik: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zita ano (je to tržní), ale efektivně. Fantasma efektivnosti a produktivity (výstupy z učení, měření, žebříčky, kompetence,přidaná hodnota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latnění na trhu prác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sledek: ohrožení školy jako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lturní instituce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AGENTURA VZDĚLÁVACÍCH SLUŽEB MÍSTO ŠKOLY, ANEB KDYŽ ORGANIZACE PŘEVÁLCUJE INSTITUCI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4000" y="1700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riterium konformity s hodnotovým modelem, dodržení pravidla, etosu a věrnosti aktu zakládajícímu instituci („neviditelné“, ba mysteriózní) střídají kritéria technická a ekonomická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nost, úspěšnost, operativnost – věc organizace. Ta neformuje modus sociální subjektivity –  vyrábí užitečné, měřitelné a vykazatelné (viditelné) služb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ysl produktu organizace dává jen trh (ne ontologické kvality jedinců/absolventů, ani míra soc. koheze a hladké mezigenerační kontinuity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tální zvrat: logika konkurence, boje všech proti vš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CO JE TO INSTITUCE?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Tři skupiny definic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Škola jako instituce: sekulární verze církevního institucionálního program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válka ideálů, ale vždy odkaz k fundačnímu aktu, k neinstrumentálním hodnotám (dobrý křesťan; aktivní občan republiky; budovatel komunistické společnosti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Škola jako instituce: film Obecná škola (i) platnost neosobních pravidel; (ii) soudržnost společenství; (iii) opora budování identit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neoliberální pojetí školy jako organizace pro produkci služby rozkládá instituc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neschopnost vidět proměnu institucionálního programu? (Dubet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cs-CZ" sz="27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KRIZE ŠKOLY JE KRIZÍ LEGITIMITY URČITÉHO TYPU KULTURY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školní vzdělávání funguje v logice daru a protidaru; ta je oním zakladatelským aktem s antropologickým dosahem (M. Maus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zdělání není zboží ale dar; každý dar lze vyčíslit, ale slušný člověk to nedělá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r se opětuje (nutí k opětování): synchronně, např. pílí; diachronně, např. předáváním dalším generací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vinnost dávat – přijímat – opětovat d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zcizitelnost daru (Gregory) – dar předáním nepřestává být součástí identity darujícíh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ZÁVĚR – CO DĚLAT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utná re-fundace instituce – obnovit logiku dar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en rovnost podmínek, ale rovnost základních intelektuálních cílů: tz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definice korpusu poznatků tvořících „společnou kulturu“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měna pedagogických praktik směrem k větší intelektuální aktivitě žák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vá profesionalita učitelů, která bude respektová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litická podpora kulturní, etické i občanské finalitě školy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lezení nového příběhu (typ sociálního pouta dávající škole smysl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8T14:40:44Z</dcterms:created>
  <dc:creator>Stanislav Štech</dc:creator>
  <dc:description/>
  <dc:language>en-US</dc:language>
  <cp:lastModifiedBy>Stanislav Štech</cp:lastModifiedBy>
  <dcterms:modified xsi:type="dcterms:W3CDTF">2012-06-29T19:55:49Z</dcterms:modified>
  <cp:revision>46</cp:revision>
  <dc:subject/>
  <dc:title>Význam školy jako instituce v současné společnosti</dc:title>
</cp:coreProperties>
</file>