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F576-F1AB-4EBE-A603-14A6979A1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B0E6-A656-4DBC-B58C-8AD765527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2B79-4813-48AE-BFC1-2D27078FB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9BB-1663-4282-AB03-B7791FC8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E7C-B230-4307-9D7E-A9F3A69A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DD1-0BDF-4DE8-B054-EE3FDD4E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46E-6146-4118-8C3B-EC1B62E1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0A2-58F1-4FA7-B03A-37F633CF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BB2-9D7B-4EE0-9003-25E94667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4BF-CDE5-4246-963D-5A20469E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7CF-0450-4A7B-A64F-6D5971C3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7A9-A762-4E9B-BAA8-502E2D97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B05-0B18-47FC-93C7-CBB8637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1E9-4722-4BDC-AED0-413E30E2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BFE-38BD-43FB-A544-C8A512A7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6ADB-E65A-4F91-A96C-EF4C1B077A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SR_B1913+16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Gigi"/>
              </a:rPr>
              <a:t>Ohlasy písní kosmickýc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Zástupný symbol pro obsah 3" descr=""/>
          <p:cNvPicPr/>
          <p:nvPr/>
        </p:nvPicPr>
        <p:blipFill>
          <a:blip r:embed="rId1"/>
          <a:stretch/>
        </p:blipFill>
        <p:spPr>
          <a:xfrm>
            <a:off x="457200" y="2932200"/>
            <a:ext cx="822960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rázek 3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vidíme při velkých rychlost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2920" y="1550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Lorentzova kontr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o vidíme (Weisskop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ál 4"/>
          <p:cNvSpPr/>
          <p:nvPr/>
        </p:nvSpPr>
        <p:spPr>
          <a:xfrm>
            <a:off x="2050920" y="33577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ál 5"/>
          <p:cNvSpPr/>
          <p:nvPr/>
        </p:nvSpPr>
        <p:spPr>
          <a:xfrm>
            <a:off x="2314440" y="2349360"/>
            <a:ext cx="4572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Přímá spojnice se šipkou 7"/>
          <p:cNvCxnSpPr/>
          <p:nvPr/>
        </p:nvCxnSpPr>
        <p:spPr>
          <a:xfrm>
            <a:off x="2965320" y="2806200"/>
            <a:ext cx="11757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1" name="TextovéPole 9"/>
          <p:cNvSpPr/>
          <p:nvPr/>
        </p:nvSpPr>
        <p:spPr>
          <a:xfrm>
            <a:off x="3421800" y="249228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ál 10"/>
          <p:cNvSpPr/>
          <p:nvPr/>
        </p:nvSpPr>
        <p:spPr>
          <a:xfrm>
            <a:off x="5818320" y="34513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ál 11"/>
          <p:cNvSpPr/>
          <p:nvPr/>
        </p:nvSpPr>
        <p:spPr>
          <a:xfrm>
            <a:off x="5818320" y="227664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Užitečnost principu rela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systému kost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5"/>
          <p:cNvSpPr/>
          <p:nvPr/>
        </p:nvSpPr>
        <p:spPr>
          <a:xfrm>
            <a:off x="6080040" y="263700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Přímá spojnice se šipkou 7"/>
          <p:cNvCxnSpPr/>
          <p:nvPr/>
        </p:nvCxnSpPr>
        <p:spPr>
          <a:xfrm>
            <a:off x="6994080" y="3139560"/>
            <a:ext cx="1080" cy="2034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Přímá spojnice se šipkou 4"/>
          <p:cNvCxnSpPr/>
          <p:nvPr/>
        </p:nvCxnSpPr>
        <p:spPr>
          <a:xfrm>
            <a:off x="1835280" y="2133720"/>
            <a:ext cx="1800720" cy="961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9" name="Přímá spojnice se šipkou 8"/>
          <p:cNvCxnSpPr/>
          <p:nvPr/>
        </p:nvCxnSpPr>
        <p:spPr>
          <a:xfrm>
            <a:off x="3622320" y="3246480"/>
            <a:ext cx="27720" cy="1838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Přímá spojnice se šipkou 15"/>
          <p:cNvCxnSpPr>
            <a:endCxn id="86" idx="3"/>
          </p:cNvCxnSpPr>
          <p:nvPr/>
        </p:nvCxnSpPr>
        <p:spPr>
          <a:xfrm flipH="1">
            <a:off x="6994080" y="1763640"/>
            <a:ext cx="100800" cy="133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91" name="Obrázek 21" descr=""/>
          <p:cNvPicPr/>
          <p:nvPr/>
        </p:nvPicPr>
        <p:blipFill>
          <a:blip r:embed="rId1"/>
          <a:stretch/>
        </p:blipFill>
        <p:spPr>
          <a:xfrm>
            <a:off x="811080" y="4081320"/>
            <a:ext cx="28386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dsvětelná rychlost je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Zástupný symbol pro obsah 4" descr=""/>
          <p:cNvPicPr/>
          <p:nvPr/>
        </p:nvPicPr>
        <p:blipFill>
          <a:blip r:embed="rId1"/>
          <a:stretch/>
        </p:blipFill>
        <p:spPr>
          <a:xfrm>
            <a:off x="1047600" y="2376360"/>
            <a:ext cx="285768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66 Martin Rees predicted (Nature 211, 46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ry Long Baseline Interferometry 19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vitační čoč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246400"/>
            <a:ext cx="4038480" cy="3233520"/>
          </a:xfrm>
          <a:prstGeom prst="rect">
            <a:avLst/>
          </a:prstGeom>
          <a:ln w="0">
            <a:noFill/>
          </a:ln>
        </p:spPr>
      </p:pic>
      <p:pic>
        <p:nvPicPr>
          <p:cNvPr id="97" name="Zástupný symbol pro obsah 5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8847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11280" y="333360"/>
            <a:ext cx="754200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Monotype Corsiva"/>
              </a:rPr>
              <a:t>Einsteinovy rovnice 19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cs-CZ" sz="3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cs-CZ" sz="3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cs-CZ" sz="3600" spc="-1" strike="noStrike">
                <a:solidFill>
                  <a:srgbClr val="ff0000"/>
                </a:solidFill>
                <a:latin typeface="Times New Roman"/>
              </a:rPr>
              <a:t>-1/2R            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kT</a:t>
            </a:r>
            <a:r>
              <a:rPr b="0" lang="cs-CZ" sz="36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cs-CZ" sz="36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663560" y="2127240"/>
            <a:ext cx="5679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4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cs-CZ" sz="4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6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36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cs-CZ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3600" spc="-1" strike="noStrike" baseline="-25000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9880" y="3429000"/>
            <a:ext cx="3216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ρ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276720" y="35812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429000" y="35812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7010280" y="3581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7162920" y="3581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676520" y="4095720"/>
            <a:ext cx="20286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cs-CZ" sz="60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cs-CZ" sz="60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cs-CZ" sz="6000" spc="-1" strike="noStrike">
                <a:solidFill>
                  <a:srgbClr val="4f81bd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605680" y="981000"/>
            <a:ext cx="100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λδ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ovéPole 1"/>
          <p:cNvSpPr/>
          <p:nvPr/>
        </p:nvSpPr>
        <p:spPr>
          <a:xfrm>
            <a:off x="6012000" y="39384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ŽITEČNOST PRINCIPU RELATIVIT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lativistické vakuu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 vakuovou energií  musí být spojen  negativní tl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 konferen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98989"/>
                </a:solidFill>
                <a:latin typeface="Calibri"/>
              </a:rPr>
              <a:t>Abhay Ashtekar</a:t>
            </a: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– smyčková gravit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898989"/>
                </a:solidFill>
                <a:latin typeface="Calibri"/>
              </a:rPr>
              <a:t>Michael Kramer</a:t>
            </a: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-  kosmické majá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myčková gravi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anckova délka  (hG/c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1/2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10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-3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anckův čas  10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-43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anckova hmotnost 10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-8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ován sám prostor a č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rázek 3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419112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ulsar – neutronová hvěz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3000240" cy="3457440"/>
          </a:xfrm>
          <a:prstGeom prst="rect">
            <a:avLst/>
          </a:prstGeom>
          <a:ln w="0">
            <a:noFill/>
          </a:ln>
        </p:spPr>
      </p:pic>
      <p:sp>
        <p:nvSpPr>
          <p:cNvPr id="57" name="TextovéPole 4"/>
          <p:cNvSpPr/>
          <p:nvPr/>
        </p:nvSpPr>
        <p:spPr>
          <a:xfrm>
            <a:off x="6451200" y="191628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agnetická 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Přímá spojnice se šipkou 6"/>
          <p:cNvCxnSpPr/>
          <p:nvPr/>
        </p:nvCxnSpPr>
        <p:spPr>
          <a:xfrm flipH="1">
            <a:off x="5002920" y="2298240"/>
            <a:ext cx="129780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ovéPole 9"/>
          <p:cNvSpPr/>
          <p:nvPr/>
        </p:nvSpPr>
        <p:spPr>
          <a:xfrm>
            <a:off x="470880" y="198900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tační 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Přímá spojnice se šipkou 10"/>
          <p:cNvCxnSpPr/>
          <p:nvPr/>
        </p:nvCxnSpPr>
        <p:spPr>
          <a:xfrm>
            <a:off x="1547280" y="2364840"/>
            <a:ext cx="230436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1" name="TextovéPole 2"/>
          <p:cNvSpPr/>
          <p:nvPr/>
        </p:nvSpPr>
        <p:spPr>
          <a:xfrm>
            <a:off x="5665320" y="2781360"/>
            <a:ext cx="293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9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ocelyne Bell , Antony Hew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.337302088331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GM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ovéPole 5"/>
          <p:cNvSpPr/>
          <p:nvPr/>
        </p:nvSpPr>
        <p:spPr>
          <a:xfrm>
            <a:off x="6294960" y="4581360"/>
            <a:ext cx="10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W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S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1913+16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se-Taylor binary puls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SR J0737-3039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200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2952720" y="227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74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cibo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Joseph Hooton Taylor, Jr. and Russell Hulse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belova cen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s://encrypted-tbn1.google.com/images?q=tbn:ANd9GcSzZJXvn_W3fT2vh2KCspZ54wRfnRDAVeLnI-uJv0hLUPoaSvrZ"/>
          <p:cNvPicPr/>
          <p:nvPr/>
        </p:nvPicPr>
        <p:blipFill>
          <a:blip r:embed="rId2"/>
          <a:stretch/>
        </p:blipFill>
        <p:spPr>
          <a:xfrm>
            <a:off x="5508720" y="4437000"/>
            <a:ext cx="2923920" cy="156204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4"/>
          <p:cNvSpPr/>
          <p:nvPr/>
        </p:nvSpPr>
        <p:spPr>
          <a:xfrm>
            <a:off x="1274400" y="472428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ptační  doba  22..8  ms -2,8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uv periastr 19.9 stupň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2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"/>
          <p:cNvSpPr/>
          <p:nvPr/>
        </p:nvSpPr>
        <p:spPr>
          <a:xfrm>
            <a:off x="1143720" y="666720"/>
            <a:ext cx="6986880" cy="1191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000000"/>
                </a:solidFill>
                <a:latin typeface="Calibri"/>
              </a:rPr>
              <a:t>Výstava v Karolin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ázek 1" descr=""/>
          <p:cNvPicPr/>
          <p:nvPr/>
        </p:nvPicPr>
        <p:blipFill>
          <a:blip r:embed="rId1"/>
          <a:stretch/>
        </p:blipFill>
        <p:spPr>
          <a:xfrm>
            <a:off x="215424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ubismus se snažil počítat i se čtvrtou dimenzí (ovlivněno A. Einsteinem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8:31:29Z</dcterms:created>
  <dc:creator>la</dc:creator>
  <dc:description/>
  <dc:language>en-US</dc:language>
  <cp:lastModifiedBy>Pavel Dvořák</cp:lastModifiedBy>
  <dcterms:modified xsi:type="dcterms:W3CDTF">2012-08-22T11:52:34Z</dcterms:modified>
  <cp:revision>31</cp:revision>
  <dc:subject/>
  <dc:title>Prezentace aplikace PowerPoint</dc:title>
</cp:coreProperties>
</file>