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F52F-417D-432E-9444-241BDD56E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2010-9DF6-4C2C-B8C2-8BF01501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5408-B3B8-44EB-8E26-FD81DC86C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4E41-A17D-4CDA-8CA2-EB39C5833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B067-ECE9-4A7D-95A0-FF247897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45BD-B9B7-4CE6-B6E2-BE9782F5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3BC7-61AD-437A-B733-9C45448D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6D4B-ABA6-4865-9DCC-FEFF7EDA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2100-ABA4-458D-A691-E99FC2DB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60BC-DD51-4C7A-B94D-78DA3776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BCA4-B621-4C64-A671-7545F561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F91F-6EB9-4002-9917-8F669E0D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CAB1-D580-459F-B26B-16551E2AB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3.jpeg"/><Relationship Id="rId14" Type="http://schemas.openxmlformats.org/officeDocument/2006/relationships/image" Target="../media/image13.jpeg"/><Relationship Id="rId15" Type="http://schemas.openxmlformats.org/officeDocument/2006/relationships/image" Target="../media/image13.jpeg"/><Relationship Id="rId16" Type="http://schemas.openxmlformats.org/officeDocument/2006/relationships/image" Target="../media/image13.jpeg"/><Relationship Id="rId17" Type="http://schemas.openxmlformats.org/officeDocument/2006/relationships/image" Target="../media/image13.jpeg"/><Relationship Id="rId18" Type="http://schemas.openxmlformats.org/officeDocument/2006/relationships/image" Target="../media/image13.jpeg"/><Relationship Id="rId1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7266" t="20209" r="6897" b="25910"/>
          <a:stretch/>
        </p:blipFill>
        <p:spPr>
          <a:xfrm>
            <a:off x="2627280" y="0"/>
            <a:ext cx="6516720" cy="2997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0" t="0" r="4944" b="10561"/>
          <a:stretch/>
        </p:blipFill>
        <p:spPr>
          <a:xfrm>
            <a:off x="4317840" y="4033800"/>
            <a:ext cx="4826160" cy="28242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>
            <a:lum bright="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981000"/>
            <a:ext cx="81374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0021"/>
                </a:solidFill>
                <a:latin typeface="Arial"/>
              </a:rPr>
              <a:t>JAK CHÁPAT</a:t>
            </a:r>
            <a:r>
              <a:rPr b="1" lang="en-US" sz="4800" spc="-1" strike="noStrike">
                <a:solidFill>
                  <a:srgbClr val="a50021"/>
                </a:solidFill>
                <a:latin typeface="Arial"/>
              </a:rPr>
              <a:t> </a:t>
            </a:r>
            <a:br>
              <a:rPr sz="4800"/>
            </a:br>
            <a:br>
              <a:rPr sz="1200"/>
            </a:br>
            <a:r>
              <a:rPr b="1" lang="en-US" sz="5400" spc="-1" strike="noStrike">
                <a:solidFill>
                  <a:srgbClr val="a50021"/>
                </a:solidFill>
                <a:latin typeface="Arial"/>
              </a:rPr>
              <a:t>PRAVDĚPODOBNOST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3141720"/>
            <a:ext cx="7704000" cy="0"/>
          </a:xfrm>
          <a:prstGeom prst="line">
            <a:avLst/>
          </a:prstGeom>
          <a:ln w="63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4000" y="3716280"/>
            <a:ext cx="7848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66"/>
                </a:solidFill>
                <a:latin typeface="Arial"/>
              </a:rPr>
              <a:t>Matematika, fyzika a jejich vyuč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66"/>
                </a:solidFill>
                <a:latin typeface="Arial"/>
              </a:rPr>
              <a:t>Velké Meziříčí, 24. srpna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66"/>
                </a:solidFill>
                <a:latin typeface="Arial"/>
              </a:rPr>
              <a:t>Magdalena Hykš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. U které společnosti si máme vsadit na zápas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Španělsko – Honduras na MS ve fotbale 2010?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826920" y="1816200"/>
          <a:ext cx="6912000" cy="1687320"/>
        </p:xfrm>
        <a:graphic>
          <a:graphicData uri="http://schemas.openxmlformats.org/drawingml/2006/table">
            <a:tbl>
              <a:tblPr/>
              <a:tblGrid>
                <a:gridCol w="2322720"/>
                <a:gridCol w="1566720"/>
                <a:gridCol w="1511280"/>
                <a:gridCol w="1511280"/>
              </a:tblGrid>
              <a:tr h="422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(výhra Š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 (remíz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(výhra H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-at-h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tu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p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611280" y="3941640"/>
            <a:ext cx="8229600" cy="17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Čísla v tabulce: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olik sázková kancelář vyplatí za 1 Kč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   sázky na správný výsled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. U které společnosti si máme vsadit na zápas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Španělsko – Honduras na MS ve fotbale 2010?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826920" y="1816200"/>
          <a:ext cx="6912000" cy="1687320"/>
        </p:xfrm>
        <a:graphic>
          <a:graphicData uri="http://schemas.openxmlformats.org/drawingml/2006/table">
            <a:tbl>
              <a:tblPr/>
              <a:tblGrid>
                <a:gridCol w="2322720"/>
                <a:gridCol w="1566720"/>
                <a:gridCol w="1511280"/>
                <a:gridCol w="1511280"/>
              </a:tblGrid>
              <a:tr h="422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(výhra Š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 (remíz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(výhra H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-at-h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tu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990033"/>
                          </a:solidFill>
                          <a:latin typeface="Arial"/>
                          <a:ea typeface="Times New Roman"/>
                        </a:rPr>
                        <a:t>Tip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33"/>
                          </a:solidFill>
                          <a:latin typeface="Arial"/>
                          <a:ea typeface="Times New Roman"/>
                        </a:rPr>
                        <a:t>1,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33"/>
                          </a:solidFill>
                          <a:latin typeface="Arial"/>
                          <a:ea typeface="Times New Roman"/>
                        </a:rPr>
                        <a:t>13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22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611280" y="3941640"/>
            <a:ext cx="85327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Čísla v tabulce: </a:t>
            </a:r>
            <a:r>
              <a:rPr b="1" lang="cs-CZ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kolik sázková kancelář vyplatí za 1 Kč</a:t>
            </a:r>
            <a:br>
              <a:rPr sz="2400"/>
            </a:b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                            sázky na správný výsledek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a)  Ať už zápas dopadne jakkoli, nejvíce vyplatí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Tip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. U které společnosti si máme vsadit na zápas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Španělsko – Honduras na MS ve fotbale 2010?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826920" y="1816200"/>
          <a:ext cx="6912000" cy="1687320"/>
        </p:xfrm>
        <a:graphic>
          <a:graphicData uri="http://schemas.openxmlformats.org/drawingml/2006/table">
            <a:tbl>
              <a:tblPr/>
              <a:tblGrid>
                <a:gridCol w="2322720"/>
                <a:gridCol w="1566720"/>
                <a:gridCol w="1511280"/>
                <a:gridCol w="1511280"/>
              </a:tblGrid>
              <a:tr h="422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(výhra Š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 (remíz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(výhra H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-at-h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tu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a50021"/>
                          </a:solidFill>
                          <a:latin typeface="Arial"/>
                          <a:ea typeface="Times New Roman"/>
                        </a:rPr>
                        <a:t>Tip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  <a:ea typeface="Times New Roman"/>
                        </a:rPr>
                        <a:t>1,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  <a:ea typeface="Times New Roman"/>
                        </a:rPr>
                        <a:t>13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22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611280" y="3941640"/>
            <a:ext cx="85327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Čísla v tabulce: </a:t>
            </a:r>
            <a:r>
              <a:rPr b="1" lang="cs-CZ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kolik sázková kancelář vyplatí za 1 Kč</a:t>
            </a:r>
            <a:br>
              <a:rPr sz="2400"/>
            </a:b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                            sázky na správný výsledek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a)  Ať už zápas dopadne jakkoli, nejvíce vyplatí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Tipsport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990033"/>
                </a:solidFill>
                <a:latin typeface="Arial"/>
              </a:rPr>
              <a:t>b)  Nejpravděpodobnější výsledek: výhra Španěl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) Představte si, že vsadíte na všechny možnosti tak,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abyste v každém případě vyhráli 100 Kč.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Kolik procent vsazené částky se vám vrátí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82560" y="1628640"/>
          <a:ext cx="7850160" cy="1687320"/>
        </p:xfrm>
        <a:graphic>
          <a:graphicData uri="http://schemas.openxmlformats.org/drawingml/2006/table">
            <a:tbl>
              <a:tblPr/>
              <a:tblGrid>
                <a:gridCol w="1873440"/>
                <a:gridCol w="1439640"/>
                <a:gridCol w="1440000"/>
                <a:gridCol w="1441440"/>
                <a:gridCol w="1655640"/>
              </a:tblGrid>
              <a:tr h="422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ávratn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-at-h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tu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p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468360" y="3742200"/>
            <a:ext cx="828036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33"/>
                </a:solidFill>
                <a:latin typeface="Arial"/>
              </a:rPr>
              <a:t>Návratnost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 - n</a:t>
            </a:r>
            <a:r>
              <a:rPr b="1" lang="cs-CZ" sz="2400" spc="-1" strike="noStrike">
                <a:solidFill>
                  <a:srgbClr val="990033"/>
                </a:solidFill>
                <a:latin typeface="Arial"/>
              </a:rPr>
              <a:t>apř. pro Fortun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bychom vyhráli 100 Kč v případ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ítězství Španělsk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usíme na ně vsadi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elkem zaplatím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625920" y="5734080"/>
                <a:ext cx="516240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990960" y="5013360"/>
                <a:ext cx="13032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) Představte si, že vsadíte na všechny možnosti tak,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abyste v každém případě vyhráli 100 Kč.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Kolik procent vsazené částky se vám vrátí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2560" y="1628640"/>
          <a:ext cx="7850160" cy="1687680"/>
        </p:xfrm>
        <a:graphic>
          <a:graphicData uri="http://schemas.openxmlformats.org/drawingml/2006/table">
            <a:tbl>
              <a:tblPr/>
              <a:tblGrid>
                <a:gridCol w="1873440"/>
                <a:gridCol w="1439640"/>
                <a:gridCol w="1440000"/>
                <a:gridCol w="1441440"/>
                <a:gridCol w="1655640"/>
              </a:tblGrid>
              <a:tr h="422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ávratn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-at-h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91,53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tu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89,36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p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99,37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468360" y="3782520"/>
            <a:ext cx="828036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33"/>
                </a:solidFill>
                <a:latin typeface="Arial"/>
              </a:rPr>
              <a:t>Návratnost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 - n</a:t>
            </a:r>
            <a:r>
              <a:rPr b="1" lang="cs-CZ" sz="2400" spc="-1" strike="noStrike">
                <a:solidFill>
                  <a:srgbClr val="990033"/>
                </a:solidFill>
                <a:latin typeface="Arial"/>
              </a:rPr>
              <a:t>apř. pro Fortun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elkem zaplatím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348000" y="5748480"/>
                <a:ext cx="579600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den>
                        </m:f>
                      </m:den>
                    </m:f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15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554280" y="4541760"/>
                <a:ext cx="541044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SPRAVEDLIVÁ SÁZ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kurz sázky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... kolik musí sázející vsadit na jev A, aby v případě, že A nastane, vyhrál 1 K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413000"/>
            <a:ext cx="8136000" cy="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SPRAVEDLIVÁ SÁZ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66"/>
                </a:solidFill>
                <a:latin typeface="Arial"/>
              </a:rPr>
              <a:t>kurz sázky </a:t>
            </a:r>
            <a:r>
              <a:rPr b="1" i="1" lang="cs-CZ" sz="32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1" lang="cs-CZ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66"/>
                </a:solidFill>
                <a:latin typeface="Arial"/>
              </a:rPr>
              <a:t>... kolik musí sázející vsadit na jev A, a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cs-CZ" sz="3200" spc="-1" strike="noStrike">
                <a:solidFill>
                  <a:srgbClr val="000066"/>
                </a:solidFill>
                <a:latin typeface="Arial"/>
              </a:rPr>
              <a:t>v případě, že A nastane, vyhrál 1 K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MS v hokeji 2010, finále Česká rep. – Rusk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= 1/4,    p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= 9/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bych vyhrála S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100 Kč, musím vsad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25 Kč ... na výhru České republik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90 Kč ... na výhru Rus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1413000"/>
            <a:ext cx="8136000" cy="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66"/>
                </a:solidFill>
                <a:latin typeface="Arial"/>
              </a:rPr>
              <a:t>kurz sázky </a:t>
            </a:r>
            <a:r>
              <a:rPr b="1" i="1" lang="cs-CZ" sz="32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1" lang="cs-CZ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66"/>
                </a:solidFill>
                <a:latin typeface="Arial"/>
              </a:rPr>
              <a:t>... kolik musí sázející vsadit na jev A, a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cs-CZ" sz="3200" spc="-1" strike="noStrike">
                <a:solidFill>
                  <a:srgbClr val="000066"/>
                </a:solidFill>
                <a:latin typeface="Arial"/>
              </a:rPr>
              <a:t>v případě, že A nastane, vyhrál 1 K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MS v hokeji 2010, finále Česká rep. – Rusk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= 1/4,    p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= 9/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bych vyhrála S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100 Kč, musím vsad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25 Kč ... na výhru České republik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90 Kč ... na výhru Rus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aplatím 115 Kč, vyhraji 100 K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ávratnost: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5373720"/>
            <a:ext cx="7345440" cy="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7308720" y="5983200"/>
                <a:ext cx="183528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89308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MS v hokeji 2010, finále Česká rep. – Rusk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= 1/4,    p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= 9/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bych vyhrála S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100 Kč, musím vsad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25 Kč ... na výhru České republik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90 Kč ... na výhru Rus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aplatím 115 Kč, vyhraji 100 K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ávratnost: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50021"/>
                </a:solidFill>
                <a:latin typeface="Arial"/>
              </a:rPr>
              <a:t>p</a:t>
            </a:r>
            <a:r>
              <a:rPr b="1" lang="cs-CZ" sz="3200" spc="-1" strike="noStrike" baseline="-25000">
                <a:solidFill>
                  <a:srgbClr val="a50021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a50021"/>
                </a:solidFill>
                <a:latin typeface="Arial"/>
              </a:rPr>
              <a:t> + p</a:t>
            </a:r>
            <a:r>
              <a:rPr b="1" lang="cs-CZ" sz="3200" spc="-1" strike="noStrike" baseline="-25000">
                <a:solidFill>
                  <a:srgbClr val="a50021"/>
                </a:solidFill>
                <a:latin typeface="Arial"/>
              </a:rPr>
              <a:t>R</a:t>
            </a:r>
            <a:r>
              <a:rPr b="1" lang="cs-CZ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&gt;</a:t>
            </a:r>
            <a:r>
              <a:rPr b="1" lang="cs-CZ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1   </a:t>
            </a:r>
            <a:r>
              <a:rPr b="1" lang="cs-CZ" sz="3200" spc="-1" strike="noStrike">
                <a:solidFill>
                  <a:srgbClr val="a50021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s</a:t>
            </a:r>
            <a:r>
              <a:rPr b="1" lang="cs-CZ" sz="3200" spc="-1" strike="noStrike">
                <a:solidFill>
                  <a:srgbClr val="a50021"/>
                </a:solidFill>
                <a:latin typeface="Arial"/>
              </a:rPr>
              <a:t>ázející proděl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50021"/>
                </a:solidFill>
                <a:latin typeface="Arial"/>
              </a:rPr>
              <a:t>                                           </a:t>
            </a:r>
            <a:r>
              <a:rPr b="1" lang="cs-CZ" sz="3200" spc="-1" strike="noStrike">
                <a:solidFill>
                  <a:srgbClr val="a50021"/>
                </a:solidFill>
                <a:latin typeface="Symbol"/>
                <a:ea typeface="Symbol"/>
              </a:rPr>
              <a:t></a:t>
            </a:r>
            <a:r>
              <a:rPr b="1" lang="cs-CZ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a50021"/>
                </a:solidFill>
                <a:latin typeface="Arial"/>
              </a:rPr>
              <a:t>spravedlivá sáz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3284640"/>
            <a:ext cx="7632720" cy="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7308720" y="3838680"/>
                <a:ext cx="183528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SPRAVEDLIVÁ SÁZ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omu, kdo navrhuje kurz sázky p musí hrozit, se sám ocitne v roli sázející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413000"/>
            <a:ext cx="8136000" cy="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5280" y="5372280"/>
            <a:ext cx="850752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Andrei Nikolajevič Kolmogorov, 193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66"/>
                </a:solidFill>
                <a:latin typeface="Arial"/>
              </a:rPr>
              <a:t>Grundbegriffe der Wahrscheinlichkeitsrechnung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SPRAVEDLIVÁ SÁZ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cs-CZ" sz="3200" spc="-1" strike="noStrike">
                <a:solidFill>
                  <a:srgbClr val="000066"/>
                </a:solidFill>
                <a:latin typeface="Arial"/>
              </a:rPr>
              <a:t>tomu, kdo navrhuje kurz sázky p musí hrozit, se sám ocitne v roli sázející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66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cs-CZ" sz="3200" spc="-1" strike="noStrike">
                <a:solidFill>
                  <a:srgbClr val="000066"/>
                </a:solidFill>
                <a:latin typeface="Arial"/>
              </a:rPr>
              <a:t>připustíme kladné i záporné hodnoty sáz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cs-CZ" sz="3200" spc="-1" strike="noStrike">
                <a:solidFill>
                  <a:srgbClr val="a50021"/>
                </a:solidFill>
                <a:latin typeface="Arial"/>
              </a:rPr>
              <a:t>p</a:t>
            </a:r>
            <a:r>
              <a:rPr b="1" lang="cs-CZ" sz="3200" spc="-1" strike="noStrike" baseline="-25000">
                <a:solidFill>
                  <a:srgbClr val="a50021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a50021"/>
                </a:solidFill>
                <a:latin typeface="Arial"/>
              </a:rPr>
              <a:t> + p</a:t>
            </a:r>
            <a:r>
              <a:rPr b="1" lang="cs-CZ" sz="3200" spc="-1" strike="noStrike" baseline="-25000">
                <a:solidFill>
                  <a:srgbClr val="a50021"/>
                </a:solidFill>
                <a:latin typeface="Arial"/>
              </a:rPr>
              <a:t>R</a:t>
            </a:r>
            <a:r>
              <a:rPr b="1" lang="cs-CZ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&gt;</a:t>
            </a:r>
            <a:r>
              <a:rPr b="1" lang="cs-CZ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1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... s</a:t>
            </a:r>
            <a:r>
              <a:rPr b="1" lang="cs-CZ" sz="3200" spc="-1" strike="noStrike">
                <a:solidFill>
                  <a:srgbClr val="000066"/>
                </a:solidFill>
                <a:latin typeface="Arial"/>
              </a:rPr>
              <a:t>ázející navrhne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S &lt; 0</a:t>
            </a:r>
            <a:r>
              <a:rPr b="1" lang="cs-CZ" sz="3200" spc="-1" strike="noStrike">
                <a:solidFill>
                  <a:srgbClr val="000066"/>
                </a:solidFill>
                <a:latin typeface="Arial"/>
              </a:rPr>
              <a:t> a vyděl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1" lang="cs-CZ" sz="3200" spc="-1" strike="noStrike">
                <a:solidFill>
                  <a:srgbClr val="a50021"/>
                </a:solidFill>
                <a:latin typeface="Arial"/>
              </a:rPr>
              <a:t>p</a:t>
            </a:r>
            <a:r>
              <a:rPr b="1" lang="cs-CZ" sz="3200" spc="-1" strike="noStrike" baseline="-25000">
                <a:solidFill>
                  <a:srgbClr val="a50021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a50021"/>
                </a:solidFill>
                <a:latin typeface="Arial"/>
              </a:rPr>
              <a:t> + p</a:t>
            </a:r>
            <a:r>
              <a:rPr b="1" lang="cs-CZ" sz="3200" spc="-1" strike="noStrike" baseline="-25000">
                <a:solidFill>
                  <a:srgbClr val="a50021"/>
                </a:solidFill>
                <a:latin typeface="Arial"/>
              </a:rPr>
              <a:t>R</a:t>
            </a:r>
            <a:r>
              <a:rPr b="1" lang="cs-CZ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&lt;</a:t>
            </a:r>
            <a:r>
              <a:rPr b="1" lang="cs-CZ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1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... s</a:t>
            </a:r>
            <a:r>
              <a:rPr b="1" lang="cs-CZ" sz="3200" spc="-1" strike="noStrike">
                <a:solidFill>
                  <a:srgbClr val="000066"/>
                </a:solidFill>
                <a:latin typeface="Arial"/>
              </a:rPr>
              <a:t>ázející navrhne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S &gt; 0</a:t>
            </a:r>
            <a:r>
              <a:rPr b="1" lang="cs-CZ" sz="3200" spc="-1" strike="noStrike">
                <a:solidFill>
                  <a:srgbClr val="000066"/>
                </a:solidFill>
                <a:latin typeface="Arial"/>
              </a:rPr>
              <a:t> a vyděl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1" lang="cs-CZ" sz="3200" spc="-1" strike="noStrike">
                <a:solidFill>
                  <a:srgbClr val="a50021"/>
                </a:solidFill>
                <a:latin typeface="Arial"/>
              </a:rPr>
              <a:t>p</a:t>
            </a:r>
            <a:r>
              <a:rPr b="1" lang="cs-CZ" sz="3200" spc="-1" strike="noStrike" baseline="-25000">
                <a:solidFill>
                  <a:srgbClr val="a50021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a50021"/>
                </a:solidFill>
                <a:latin typeface="Arial"/>
              </a:rPr>
              <a:t> + p</a:t>
            </a:r>
            <a:r>
              <a:rPr b="1" lang="cs-CZ" sz="3200" spc="-1" strike="noStrike" baseline="-25000">
                <a:solidFill>
                  <a:srgbClr val="a50021"/>
                </a:solidFill>
                <a:latin typeface="Arial"/>
              </a:rPr>
              <a:t>R</a:t>
            </a:r>
            <a:r>
              <a:rPr b="1" lang="cs-CZ" sz="3200" spc="-1" strike="noStrike">
                <a:solidFill>
                  <a:srgbClr val="a50021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1413000"/>
            <a:ext cx="8136000" cy="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SPRAVEDLIVÁ SÁZ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 ...  hodnota výhry v případě, že nastan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kladn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á nebo záporná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isk:    Z(A)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)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(</a:t>
            </a:r>
            <a:r>
              <a:rPr b="1" lang="cs-CZ" sz="3200" spc="-1" strike="noStrike">
                <a:solidFill>
                  <a:srgbClr val="000000"/>
                </a:solidFill>
                <a:latin typeface="Math1"/>
                <a:ea typeface="Math1"/>
              </a:rPr>
              <a:t>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3200" spc="-1" strike="noStrike">
                <a:solidFill>
                  <a:srgbClr val="000066"/>
                </a:solidFill>
                <a:latin typeface="Arial"/>
              </a:rPr>
              <a:t>p ... pravděpodobnost, kterou book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cs-CZ" sz="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cs-CZ" sz="3200" spc="-1" strike="noStrike">
                <a:solidFill>
                  <a:srgbClr val="000066"/>
                </a:solidFill>
                <a:latin typeface="Arial"/>
              </a:rPr>
              <a:t>přisuzuje jevu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a50021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1" lang="cs-CZ" sz="3000" spc="-1" strike="noStrike">
                <a:solidFill>
                  <a:srgbClr val="a50021"/>
                </a:solidFill>
                <a:latin typeface="Arial"/>
              </a:rPr>
              <a:t>Aby zabránil jisté ztrátě, musí hodnoty p vyhovovat axiomům teorie pravděpodobnos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1197000"/>
            <a:ext cx="8136000" cy="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692280"/>
            <a:ext cx="83516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66"/>
                </a:solidFill>
                <a:latin typeface="Arial"/>
              </a:rPr>
              <a:t>3. </a:t>
            </a:r>
            <a:r>
              <a:rPr b="1" lang="cs-CZ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00066"/>
                </a:solidFill>
                <a:latin typeface="Arial"/>
              </a:rPr>
              <a:t>Tomáš Berdych a Robin Soderling jsou podle sázkový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cs-CZ" sz="2200" spc="-1" strike="noStrike">
                <a:solidFill>
                  <a:srgbClr val="000066"/>
                </a:solidFill>
                <a:latin typeface="Arial"/>
              </a:rPr>
              <a:t>kanceláří na stejné výkonnostní úrovni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66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cs-CZ" sz="2200" spc="-1" strike="noStrike">
                <a:solidFill>
                  <a:srgbClr val="000066"/>
                </a:solidFill>
                <a:latin typeface="Arial"/>
              </a:rPr>
              <a:t>Jaké jsou Berdychovy šance na výhru v jejich vzájemné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cs-CZ" sz="2200" spc="-1" strike="noStrike">
                <a:solidFill>
                  <a:srgbClr val="000066"/>
                </a:solidFill>
                <a:latin typeface="Arial"/>
              </a:rPr>
              <a:t>zápase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3213000"/>
            <a:ext cx="1728720" cy="792360"/>
          </a:xfrm>
          <a:prstGeom prst="rect">
            <a:avLst/>
          </a:prstGeom>
          <a:solidFill>
            <a:srgbClr val="3399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87640" y="3213000"/>
            <a:ext cx="172872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ffaf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3080" y="32846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ffa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68360" y="692280"/>
            <a:ext cx="83516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4.  Doktor mi řekl, že mám šanci 1:3 na úplné uzdravení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Jaká je podle něj pravděpodobnost, že se zcela uzdravím?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16360" y="2421000"/>
            <a:ext cx="1728720" cy="792000"/>
          </a:xfrm>
          <a:prstGeom prst="rect">
            <a:avLst/>
          </a:prstGeom>
          <a:solidFill>
            <a:srgbClr val="3399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45080" y="2421000"/>
            <a:ext cx="1728720" cy="792000"/>
          </a:xfrm>
          <a:prstGeom prst="rect">
            <a:avLst/>
          </a:prstGeom>
          <a:solidFill>
            <a:srgbClr val="3399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7280" y="2421000"/>
            <a:ext cx="1729080" cy="792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ffaf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2421000"/>
            <a:ext cx="1728720" cy="792000"/>
          </a:xfrm>
          <a:prstGeom prst="rect">
            <a:avLst/>
          </a:prstGeom>
          <a:solidFill>
            <a:srgbClr val="3399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3780000" y="4005360"/>
                <a:ext cx="187452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95280" y="1700280"/>
            <a:ext cx="8569440" cy="2520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ČETNOSTNÍ INTERPRETAC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66"/>
                </a:solidFill>
                <a:latin typeface="Arial"/>
              </a:rPr>
              <a:t>PRAVDĚPODOBNOST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66"/>
                </a:solidFill>
                <a:latin typeface="Arial"/>
              </a:rPr>
              <a:t>= limita relativní četnosti daného jevu v kolektivu</a:t>
            </a: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cs-CZ" sz="2800" spc="-1" strike="noStrike">
                <a:solidFill>
                  <a:srgbClr val="000066"/>
                </a:solidFill>
                <a:latin typeface="Arial"/>
              </a:rPr>
              <a:t>(nekonečná posloupnost výsledků opakovaného pokusu, splňující dané axiomy)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66"/>
                </a:solidFill>
                <a:latin typeface="Arial"/>
              </a:rPr>
              <a:t>Robert Leslie Ellis (1817 – 1859), 184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66"/>
                </a:solidFill>
                <a:latin typeface="Arial"/>
              </a:rPr>
              <a:t>John Venn  (1834 – 1923), 186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66"/>
                </a:solidFill>
                <a:latin typeface="Arial"/>
              </a:rPr>
              <a:t>Richard von Mises (1883 – 1953), 193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66"/>
                </a:solidFill>
                <a:latin typeface="Arial"/>
              </a:rPr>
              <a:t>Erich Kamke (1890 – 1961), 1932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1413000"/>
            <a:ext cx="8136000" cy="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5. RUL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Arial"/>
              </a:rPr>
              <a:t>Sázka 10 Kč na červenou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ůměrná výhr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 x 18 / 37 – 10 x 19 / 3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 </a:t>
            </a:r>
            <a:r>
              <a:rPr b="1" lang="en-US" sz="2200" spc="-1" strike="noStrike">
                <a:solidFill>
                  <a:srgbClr val="a50021"/>
                </a:solidFill>
                <a:latin typeface="Arial"/>
              </a:rPr>
              <a:t>– 0,27 K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556320" y="0"/>
            <a:ext cx="258768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francouzska-ruleta-hraci-tabule" descr=""/>
          <p:cNvPicPr/>
          <p:nvPr/>
        </p:nvPicPr>
        <p:blipFill>
          <a:blip r:embed="rId2"/>
          <a:stretch/>
        </p:blipFill>
        <p:spPr>
          <a:xfrm>
            <a:off x="0" y="2932200"/>
            <a:ext cx="6588000" cy="3925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876840" y="0"/>
            <a:ext cx="2734920" cy="29242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201680" y="2734920"/>
            <a:ext cx="18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1052640"/>
            <a:ext cx="3743280" cy="0"/>
          </a:xfrm>
          <a:prstGeom prst="line">
            <a:avLst/>
          </a:prstGeom>
          <a:ln w="316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ČETNOSTNÍ INTERPRETACE</a:t>
            </a: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1413000"/>
            <a:ext cx="8136000" cy="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1700280"/>
            <a:ext cx="8569440" cy="2520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RAVDĚPODOBNOST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= limita relativní četnosti daného jevu v kolektivu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(nekonečná posloupnost výsled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opakovaného pokusu, splňující dané axiomy)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68360" y="5187960"/>
            <a:ext cx="842472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ČETNOST </a:t>
            </a: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V POPULA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1413000"/>
            <a:ext cx="8136000" cy="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498560" y="4554000"/>
            <a:ext cx="464508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četnost daného znak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v „kolektivu“ v běžné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mys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2480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333360"/>
            <a:ext cx="83534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8. Pravděpodobnost, že žena má rakovinu prsu, je 0,8%. Pokud ji má, pak pravděpodobnost, že mamogram bude pozitivní, je 90%. Pokud ji nemá, pak pravděpodobnost, že mamogram bude i tak pozitivní, je 7%. Představte si ženu, jejíž mamogram je pozitivní; jaká je pravděpodobnost, že má skutečně rakovinu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3573360"/>
            <a:ext cx="84247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33"/>
                </a:solidFill>
                <a:latin typeface="Arial"/>
              </a:rPr>
              <a:t>Osm žen z tisíce má rakovinu prsu. Sedm z těchto osmi žen bude mít pozitivní mamogram. Ze zbylých 992 žen, které rakovinu nemají, jich bude mít zhruba 70 rovněž pozitivní mamogram. Představte si skupinu žen, kterým vyšel mamogram pozitivní; kolik z nich má skutečně rakovinu prsu?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9280" y="3357720"/>
            <a:ext cx="871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H="1">
            <a:off x="3203280" y="2671920"/>
            <a:ext cx="129708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98920" y="2671920"/>
            <a:ext cx="136836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763640" y="3968640"/>
            <a:ext cx="50472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66920" y="3968640"/>
            <a:ext cx="57636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6372360" y="3968640"/>
            <a:ext cx="50472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75640" y="3968640"/>
            <a:ext cx="57600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920" y="2185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. Osm žen z tisíce má rakovinu prsu. Sedm z těchto osmi žen bude mít pozitivní mamogram. Ze zbylých 992 žen, které rakovinu nemají, jich bude mít zhruba 70 rovněž pozitivní mamogr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35280" y="2133720"/>
            <a:ext cx="180036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0 li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51640" y="3103560"/>
            <a:ext cx="237636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92             zdrav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73720"/>
            <a:ext cx="180036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7     pozitiv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4473720"/>
            <a:ext cx="180000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  negativ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03640" y="4473720"/>
            <a:ext cx="180036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70     pozitiv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164360" y="4473720"/>
            <a:ext cx="180036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22 negativ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42920" y="3103560"/>
            <a:ext cx="23767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             nemocn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601092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                  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P(nemocná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|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pozitivní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7/77 = 9,09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95280" y="1700280"/>
            <a:ext cx="8209080" cy="21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SUBJEKTIVNÍ INTERPRET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99872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cs-CZ" sz="2800" spc="-1" strike="noStrike">
                <a:solidFill>
                  <a:srgbClr val="000066"/>
                </a:solidFill>
                <a:latin typeface="Arial"/>
              </a:rPr>
              <a:t>PRAVDĚPODOBNOST</a:t>
            </a: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cs-CZ" sz="2800" spc="-1" strike="noStrike">
                <a:solidFill>
                  <a:srgbClr val="000066"/>
                </a:solidFill>
                <a:latin typeface="Arial"/>
              </a:rPr>
              <a:t>= míra osobního přesvědčení nebo ví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cs-CZ" sz="2800" spc="-1" strike="noStrike">
                <a:solidFill>
                  <a:srgbClr val="000066"/>
                </a:solidFill>
                <a:latin typeface="Arial"/>
              </a:rPr>
              <a:t>ve výskyt určitého jevu či udál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66"/>
                </a:solidFill>
                <a:latin typeface="Arial"/>
              </a:rPr>
              <a:t>Václav Šimerka (1818 – 1887), 188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66"/>
                </a:solidFill>
                <a:latin typeface="Arial"/>
              </a:rPr>
              <a:t>Frank Plumpton Ramsey (1903 – 1930), 1931 (192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66"/>
                </a:solidFill>
                <a:latin typeface="Arial"/>
              </a:rPr>
              <a:t>Bruno de Finetti (1906 – 1985), 1931, 193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Leonard Jimmie Savage (1917 – 1971), 195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1413000"/>
            <a:ext cx="8136000" cy="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79280" y="896760"/>
            <a:ext cx="849816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9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V Kocourkově provozují taxi dvě společnosti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Jedna má modré vozy, druhá zelené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odrých vozů taxi jezdí po městě 15 %, zelených 85 %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Jednoho zimního večera za tmy a v mlze srazil automobil taxislužby mladého muže. Ten později vypověděl, že automobil byl modrý. Policie vyzkoušela, nakolik je muž schopen rozeznat barvu v podobných podmínkách jako onoho večera, a zjistila, že barvu dokáže určit správně v 80 % případů. Jaký závěr z těchto informací může udělat soudce, který řeší žalobu poškozeného na provozovatele taxislužby?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 flipH="1">
            <a:off x="3203280" y="2671920"/>
            <a:ext cx="129708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98920" y="2671920"/>
            <a:ext cx="136836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1476360" y="3968640"/>
            <a:ext cx="792000" cy="82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66920" y="3968640"/>
            <a:ext cx="865080" cy="75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6011640" y="3968640"/>
            <a:ext cx="865080" cy="82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75640" y="3968640"/>
            <a:ext cx="1009440" cy="82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1080" y="4014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zelená auta ... 85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odrá auta ... 15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chopnost rozpoznat ... 8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35280" y="2133720"/>
            <a:ext cx="180036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 a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651640" y="3103560"/>
            <a:ext cx="237636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             modr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84360" y="4724280"/>
            <a:ext cx="180036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17     modr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4724280"/>
            <a:ext cx="180000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8     zelen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003640" y="4724280"/>
            <a:ext cx="180036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12     modr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164360" y="4724280"/>
            <a:ext cx="180036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      zele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42920" y="3103560"/>
            <a:ext cx="23767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5             zelen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421992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vědec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 flipH="1">
            <a:off x="3203280" y="2671920"/>
            <a:ext cx="129708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98920" y="2671920"/>
            <a:ext cx="136836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476360" y="3968640"/>
            <a:ext cx="792000" cy="82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66920" y="3968640"/>
            <a:ext cx="865080" cy="75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6011640" y="3968640"/>
            <a:ext cx="865080" cy="82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75640" y="3968640"/>
            <a:ext cx="1009440" cy="82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81080" y="4014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zelená auta ... 85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odrá auta ... 15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chopnost rozpoznat ... 8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35280" y="2133720"/>
            <a:ext cx="180036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 a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651640" y="3103560"/>
            <a:ext cx="237636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             modr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84360" y="4724280"/>
            <a:ext cx="180036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17     modr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4724280"/>
            <a:ext cx="180000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8     zelen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03640" y="4724280"/>
            <a:ext cx="180036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12     modr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164360" y="4724280"/>
            <a:ext cx="180036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      zele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42920" y="3103560"/>
            <a:ext cx="23767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5             zelen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9640" y="621072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                  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P(modrý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|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svědectví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12/29 = 41,4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421992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vědec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50920" y="99000"/>
            <a:ext cx="87138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0. Před nástupem do nového zaměstnání musel David podstoupit rutinní preventivní prohlídku, jejíž součástí byl test na HIV. Výrobce testu na HIV uvádí, že test odhalí přítomnost viru u nemocné osoby s pravděpodobností 99,90 % a s pravděpodobností 99,99 % dá negativní výsledek u zdravé osoby. V České republice je virem nakažen přibližně 1 člověk z 10 000. Po vyhodnocení testu lékař Davidovi zatelefonoval, že mu test vyšel pozitivní, a že musí znovu na odběr krve, aby se výsledek ověřil. Výsledek druhého testu bude znám až za týden. David zatím musí čekat, hlavou mu přitom běží nejčernější myšlenky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) David se z hlediska rizika nákazy virem HIV považuje za průměrného Čecha. Jaká je pravděpodobnost po výsledku prvního testu, že má skutečně HIV?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539640" y="4941720"/>
          <a:ext cx="8280360" cy="1643400"/>
        </p:xfrm>
        <a:graphic>
          <a:graphicData uri="http://schemas.openxmlformats.org/drawingml/2006/table">
            <a:tbl>
              <a:tblPr/>
              <a:tblGrid>
                <a:gridCol w="4680000"/>
                <a:gridCol w="3600360"/>
              </a:tblGrid>
              <a:tr h="16434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) větší než 99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) mezi 90 % a 99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) mezi 60 % a 9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) mezi 40 % a 6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)  mezi 10 % a 4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)</a:t>
                      </a: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ezi 1 % a 1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i) menší než 1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 flipH="1">
            <a:off x="3203280" y="2205000"/>
            <a:ext cx="129708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98920" y="2205000"/>
            <a:ext cx="136836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763640" y="3502080"/>
            <a:ext cx="50472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66920" y="3502080"/>
            <a:ext cx="57636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6372360" y="3502080"/>
            <a:ext cx="50472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75640" y="3502080"/>
            <a:ext cx="57600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81080" y="43920"/>
            <a:ext cx="914400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pozitivní výsledek u nemocné osoby ... pravděpodobnost 99,90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negativní výsledek u zdravé osoby ... pravděpodobnost 99,99 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                                </a:t>
            </a:r>
            <a:r>
              <a:rPr b="1" lang="en-US" sz="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výskyt nemoci ... 1 Čech z 10 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35280" y="1666800"/>
            <a:ext cx="180036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 000 li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651640" y="2637000"/>
            <a:ext cx="237636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999             zdrav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006800"/>
            <a:ext cx="180036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1     pozitiv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4006800"/>
            <a:ext cx="180000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     negativ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003640" y="4006800"/>
            <a:ext cx="180036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1     pozitiv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64360" y="4006800"/>
            <a:ext cx="180036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998 negativ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42920" y="2637000"/>
            <a:ext cx="23767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          nemoc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6720" y="5161680"/>
            <a:ext cx="856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                                        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1    :   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 flipH="1">
            <a:off x="3203280" y="2205000"/>
            <a:ext cx="129708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498920" y="2205000"/>
            <a:ext cx="136836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763640" y="3502080"/>
            <a:ext cx="50472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66920" y="3502080"/>
            <a:ext cx="57636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6372360" y="3502080"/>
            <a:ext cx="50472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75640" y="3502080"/>
            <a:ext cx="57600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1080" y="43920"/>
            <a:ext cx="914400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pozitivní výsledek u nemocné osoby ... pravděpodobnost 99,90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negativní výsledek u zdravé osoby ... pravděpodobnost 99,99 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                                </a:t>
            </a:r>
            <a:r>
              <a:rPr b="1" lang="en-US" sz="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výskyt nemoci ... 1 Čech z 10 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35280" y="1666800"/>
            <a:ext cx="180036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 000 li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651640" y="2637000"/>
            <a:ext cx="237636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999             zdrav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84360" y="4006800"/>
            <a:ext cx="180036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1     pozitiv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4006800"/>
            <a:ext cx="180000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     negativ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03640" y="4006800"/>
            <a:ext cx="180036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1     pozitiv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164360" y="4006800"/>
            <a:ext cx="180036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998 negativ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42920" y="2637000"/>
            <a:ext cx="23767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          nemoc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6720" y="5161680"/>
            <a:ext cx="856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66"/>
                </a:solidFill>
                <a:latin typeface="Arial"/>
              </a:rPr>
              <a:t>                                  </a:t>
            </a:r>
            <a:r>
              <a:rPr b="1" lang="cs-CZ" sz="2200" spc="-1" strike="noStrike">
                <a:solidFill>
                  <a:srgbClr val="000066"/>
                </a:solidFill>
                <a:latin typeface="Arial"/>
              </a:rPr>
              <a:t>P(nemocný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|</a:t>
            </a:r>
            <a:r>
              <a:rPr b="1" lang="cs-CZ" sz="2200" spc="-1" strike="noStrike">
                <a:solidFill>
                  <a:srgbClr val="000066"/>
                </a:solidFill>
                <a:latin typeface="Arial"/>
              </a:rPr>
              <a:t>pozitivní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00066"/>
                </a:solidFill>
                <a:latin typeface="Arial"/>
              </a:rPr>
              <a:t>1/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 flipH="1">
            <a:off x="3203280" y="2205000"/>
            <a:ext cx="129708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498920" y="2205000"/>
            <a:ext cx="136836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1763640" y="3502080"/>
            <a:ext cx="50472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66920" y="3502080"/>
            <a:ext cx="57636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6372360" y="3502080"/>
            <a:ext cx="50472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75640" y="3502080"/>
            <a:ext cx="57600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81080" y="43920"/>
            <a:ext cx="914400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pozitivní výsledek u nemocné osoby ... pravděpodobnost 99,90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negativní výsledek u zdravé osoby ... pravděpodobnost 99,99 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                                </a:t>
            </a:r>
            <a:r>
              <a:rPr b="1" lang="en-US" sz="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výskyt nemoci ... 1 Čech z 10 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35280" y="1666800"/>
            <a:ext cx="180036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 000 li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651640" y="2637000"/>
            <a:ext cx="237636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999             zdrav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84360" y="4006800"/>
            <a:ext cx="180036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1     pozitiv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0920" y="4006800"/>
            <a:ext cx="180000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     negativ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03640" y="4006800"/>
            <a:ext cx="180036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1     pozitiv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164360" y="4006800"/>
            <a:ext cx="180036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998 negativ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42920" y="2637000"/>
            <a:ext cx="23767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          nemoc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360" y="5147280"/>
            <a:ext cx="85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                                  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P(nemocný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|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pozitivní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 flipH="1">
            <a:off x="3203280" y="2205000"/>
            <a:ext cx="129708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98920" y="2205000"/>
            <a:ext cx="136836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1763640" y="3502080"/>
            <a:ext cx="50472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66920" y="3502080"/>
            <a:ext cx="57636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372360" y="3502080"/>
            <a:ext cx="50472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75640" y="3502080"/>
            <a:ext cx="57600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81080" y="43920"/>
            <a:ext cx="914400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pozitivní výsledek u nemocné osoby ... pravděpodobnost 99,90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negativní výsledek u zdravé osoby ... pravděpodobnost 99,99 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                                </a:t>
            </a:r>
            <a:r>
              <a:rPr b="1" lang="en-US" sz="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výskyt nemoci ... 1 Čech z 10 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635280" y="1666800"/>
            <a:ext cx="180036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 000 li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51640" y="2637000"/>
            <a:ext cx="237636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999             zdrav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484360" y="4006800"/>
            <a:ext cx="180036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1     pozitiv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0920" y="4006800"/>
            <a:ext cx="180000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     negativ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003640" y="4006800"/>
            <a:ext cx="180036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1     pozitiv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164360" y="4006800"/>
            <a:ext cx="180036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998 negativ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042920" y="2637000"/>
            <a:ext cx="23767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          nemoc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4920" y="5147280"/>
            <a:ext cx="85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                                  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P(nemocný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|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pozitivní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5966640"/>
            <a:ext cx="85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71520" indent="-371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P(pozitivní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|</a:t>
            </a: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nemocný)</a:t>
            </a:r>
            <a:r>
              <a:rPr b="1" lang="cs-CZ" sz="2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cs-CZ" sz="4000" spc="-1" strike="noStrike">
                <a:solidFill>
                  <a:srgbClr val="a50021"/>
                </a:solidFill>
                <a:latin typeface="Symbol"/>
                <a:ea typeface="Symbol"/>
              </a:rPr>
              <a:t></a:t>
            </a:r>
            <a:r>
              <a:rPr b="1" lang="cs-CZ" sz="2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P(nemocný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|</a:t>
            </a: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pozitiv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427640" y="6093000"/>
            <a:ext cx="431640" cy="57600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427640" y="6093000"/>
            <a:ext cx="503280" cy="57600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5" name=""/>
          <p:cNvGraphicFramePr/>
          <p:nvPr/>
        </p:nvGraphicFramePr>
        <p:xfrm>
          <a:off x="1474920" y="2205000"/>
          <a:ext cx="5689440" cy="2232000"/>
        </p:xfrm>
        <a:graphic>
          <a:graphicData uri="http://schemas.openxmlformats.org/drawingml/2006/table">
            <a:tbl>
              <a:tblPr/>
              <a:tblGrid>
                <a:gridCol w="1665000"/>
                <a:gridCol w="1460520"/>
                <a:gridCol w="1379520"/>
                <a:gridCol w="1184400"/>
              </a:tblGrid>
              <a:tr h="65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moc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dra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itiv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gativ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99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181080" y="358200"/>
            <a:ext cx="914400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pozitivní výsledek u nemocné osoby ... pravděpodobnost 99,90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negativní výsledek u zdravé osoby ... pravděpodobnost 99,99 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                                </a:t>
            </a:r>
            <a:r>
              <a:rPr b="1" lang="en-US" sz="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výskyt nemoci ... 1 Čech z 10 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920" y="5047920"/>
            <a:ext cx="91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                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P(nemocný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|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pozitivní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1/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5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                </a:t>
            </a: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P(zdravý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|</a:t>
            </a: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pozitivní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=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1/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=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5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% ... falešná pozitiv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1474920" y="2205000"/>
          <a:ext cx="5689440" cy="2232000"/>
        </p:xfrm>
        <a:graphic>
          <a:graphicData uri="http://schemas.openxmlformats.org/drawingml/2006/table">
            <a:tbl>
              <a:tblPr/>
              <a:tblGrid>
                <a:gridCol w="1665000"/>
                <a:gridCol w="1460520"/>
                <a:gridCol w="1379520"/>
                <a:gridCol w="1184400"/>
              </a:tblGrid>
              <a:tr h="65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moc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dra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itiv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gativ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9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181080" y="358200"/>
            <a:ext cx="914400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pozitivní výsledek u nemocné osoby ... pravděpodobnost 99,90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negativní výsledek u zdravé osoby ... pravděpodobnost 99,99 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                                </a:t>
            </a:r>
            <a:r>
              <a:rPr b="1" lang="en-US" sz="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a50021"/>
                </a:solidFill>
                <a:latin typeface="Arial"/>
              </a:rPr>
              <a:t>výskyt nemoci ... 1 ze 100 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20" y="5047920"/>
            <a:ext cx="85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                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P(nemocný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|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pozitivní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1/11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9,09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                </a:t>
            </a: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P(zdravý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|</a:t>
            </a: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pozitivní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=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10/1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=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90,91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SUBJEKTIVNÍ INTERPRET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748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Každodenní uvaž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8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ouhle dobou snad na D1 nebudou kolo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8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roti Rusku nemají naši hokejisté šan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8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ento lék by měl na Vaše potíže zabr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8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Volby nejspíš vyhraje ČSS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8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Když vyrazím v 16:10, tak ten vlak snad stihn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8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ČNB předpovídá na rok 2011 růst HDP o 1,8 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413000"/>
            <a:ext cx="8136000" cy="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1474920" y="2205000"/>
          <a:ext cx="6121440" cy="2232000"/>
        </p:xfrm>
        <a:graphic>
          <a:graphicData uri="http://schemas.openxmlformats.org/drawingml/2006/table">
            <a:tbl>
              <a:tblPr/>
              <a:tblGrid>
                <a:gridCol w="1665000"/>
                <a:gridCol w="1460520"/>
                <a:gridCol w="1379520"/>
                <a:gridCol w="1616400"/>
              </a:tblGrid>
              <a:tr h="65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moc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dra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itiv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gativ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989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9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9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0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>
            <a:off x="181080" y="358200"/>
            <a:ext cx="914400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pozitivní výsledek u nemocné osoby ... pravděpodobnost 99,90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negativní výsledek u zdravé osoby ... pravděpodobnost 99,99 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                                </a:t>
            </a:r>
            <a:r>
              <a:rPr b="1" lang="en-US" sz="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a50021"/>
                </a:solidFill>
                <a:latin typeface="Arial"/>
              </a:rPr>
              <a:t>výskyt nemoci ... 1 ze 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4920" y="5047920"/>
            <a:ext cx="91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P(nemocný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|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pozitivní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999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/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1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089 = 99,02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P(zdravý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|</a:t>
            </a: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pozitivní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=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99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/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1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089 =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0,98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08000" y="-27000"/>
            <a:ext cx="8964720" cy="69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66"/>
                </a:solidFill>
                <a:latin typeface="Arial"/>
              </a:rPr>
              <a:t>11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66"/>
                </a:solidFill>
                <a:latin typeface="Arial"/>
              </a:rPr>
              <a:t>Lékař má podezření, že potíže jeho pacienta, pana Veselého, působí streptokoková infekce. Provede mu výtěr z krku a do laboratoře pošle celkem 5 stěrů. Test není dokonalý: má-li pacient streptokokovou infekci, bude výsledek pozitivní v 70 % případů, ve zbývajících 30 % případů bude negativní. Je-li pacient zdráv, bude výsledek v 90 % případů negativní, v 10 % případů pozitivní. Výsledek laboratorních zkoušek je následující: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66"/>
                </a:solidFill>
                <a:latin typeface="Arial"/>
              </a:rPr>
              <a:t>ANO, NE, ANO, NE, AN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66"/>
                </a:solidFill>
                <a:latin typeface="Arial"/>
              </a:rPr>
              <a:t>Příznaky choroby nejsou příliš přesvědčivé a lékař na jejich základě odhadne pravděpodobnost streptokokové infekce na 0,5. Co z toho plyne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)   Výsledky testu jsou bezcenn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i)  Pacient streptokokovou infekci spíš nem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ii) Je o něco málo pravděpodobnější, že pacient streptokokovou infek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á než nem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v) Je mnohem pravděpodobnější, že pacient streptokokovou infekci m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ež nemá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 flipH="1">
            <a:off x="3203280" y="3713040"/>
            <a:ext cx="129708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498920" y="3713040"/>
            <a:ext cx="136836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1476360" y="5010120"/>
            <a:ext cx="792000" cy="82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66920" y="5010120"/>
            <a:ext cx="865080" cy="75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6011640" y="5010120"/>
            <a:ext cx="865080" cy="82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75640" y="5010120"/>
            <a:ext cx="1009440" cy="82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6360" y="72000"/>
            <a:ext cx="914400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nemocný ... pozitivní test: 70 %,    negativní test: 3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zdravý     ... pozitivní test: 10 %,    negativní test: 9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výsledky:    + – + –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P(+ – + – +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| 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N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0,7 x 0,3 x 0,7 x 0,3 x 0,7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 = 0,03087 = 3,087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P(+ – + – +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| Z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0,1 x 0,9 x 0,1 x 0,9 x 0,1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 = 0,00081 = 0,081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P(N)=P(Z)=0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635280" y="3174840"/>
            <a:ext cx="180036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 0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00 li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651640" y="4145040"/>
            <a:ext cx="237636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 000             zdrav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84360" y="5765760"/>
            <a:ext cx="19432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309             + – + –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50920" y="5765760"/>
            <a:ext cx="180000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691     ji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164360" y="5765760"/>
            <a:ext cx="180036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992       ji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42920" y="4145040"/>
            <a:ext cx="23767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 000             nemocn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789440" y="5765760"/>
            <a:ext cx="19432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8                 + – + –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 flipH="1">
            <a:off x="3203280" y="871560"/>
            <a:ext cx="129708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498920" y="871560"/>
            <a:ext cx="136836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1476360" y="2168640"/>
            <a:ext cx="792000" cy="82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266920" y="2168640"/>
            <a:ext cx="865080" cy="75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6011640" y="2168640"/>
            <a:ext cx="865080" cy="82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875640" y="2168640"/>
            <a:ext cx="1009440" cy="82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635280" y="333360"/>
            <a:ext cx="180036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 0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00 li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651640" y="1303200"/>
            <a:ext cx="237636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 000             zdrav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484360" y="2924280"/>
            <a:ext cx="19432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309             + – + –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50920" y="2924280"/>
            <a:ext cx="180000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691     ji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164360" y="2924280"/>
            <a:ext cx="180036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992       ji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042920" y="1303200"/>
            <a:ext cx="23767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 000             nemocn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789440" y="2924280"/>
            <a:ext cx="19432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8                 + – + –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4360" y="486792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71520" indent="-371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33"/>
                </a:solidFill>
                <a:latin typeface="Arial"/>
              </a:rPr>
              <a:t>P(N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| </a:t>
            </a:r>
            <a:r>
              <a:rPr b="1" lang="cs-CZ" sz="2400" spc="-1" strike="noStrike">
                <a:solidFill>
                  <a:srgbClr val="990033"/>
                </a:solidFill>
                <a:latin typeface="Arial"/>
              </a:rPr>
              <a:t>+ – + – +)</a:t>
            </a: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990033"/>
                </a:solidFill>
                <a:latin typeface="Arial"/>
              </a:rPr>
              <a:t>=</a:t>
            </a: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990033"/>
                </a:solidFill>
                <a:latin typeface="Arial"/>
              </a:rPr>
              <a:t>309/317 = 0,974 = 97,4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95280" y="369144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33"/>
                </a:solidFill>
                <a:latin typeface="Arial"/>
              </a:rPr>
              <a:t>Bay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558720" y="4441680"/>
                <a:ext cx="802656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−</m:t>
                    </m:r>
                    <m:r>
                      <m:t xml:space="preserve">+</m:t>
                    </m:r>
                    <m:r>
                      <m:t xml:space="preserve">−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+</m:t>
                        </m:r>
                        <m:r>
                          <m:t xml:space="preserve">−</m:t>
                        </m:r>
                        <m:r>
                          <m:t xml:space="preserve">+</m:t>
                        </m:r>
                        <m:r>
                          <m:t xml:space="preserve">−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+</m:t>
                        </m:r>
                        <m:r>
                          <m:t xml:space="preserve">−</m:t>
                        </m:r>
                        <m:r>
                          <m:t xml:space="preserve">+</m:t>
                        </m:r>
                        <m:r>
                          <m:t xml:space="preserve">−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+</m:t>
                        </m:r>
                        <m:r>
                          <m:t xml:space="preserve">−</m:t>
                        </m:r>
                        <m:r>
                          <m:t xml:space="preserve">+</m:t>
                        </m:r>
                        <m:r>
                          <m:t xml:space="preserve">−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1441440" y="5678640"/>
                <a:ext cx="72262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,0309</m:t>
                        </m:r>
                        <m:r>
                          <m:t xml:space="preserve">⋅</m:t>
                        </m:r>
                        <m:r>
                          <m:t xml:space="preserve">0,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0,0309</m:t>
                        </m:r>
                        <m:r>
                          <m:t xml:space="preserve">⋅</m:t>
                        </m:r>
                        <m:r>
                          <m:t xml:space="preserve">0,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0,0008</m:t>
                        </m:r>
                        <m:r>
                          <m:t xml:space="preserve">⋅</m:t>
                        </m:r>
                        <m:r>
                          <m:t xml:space="preserve">0,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⋅</m:t>
                        </m:r>
                        <m:r>
                          <m:t xml:space="preserve">0,5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⋅</m:t>
                        </m:r>
                        <m:r>
                          <m:t xml:space="preserve">0,5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0,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7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6" name=""/>
          <p:cNvSpPr/>
          <p:nvPr/>
        </p:nvSpPr>
        <p:spPr>
          <a:xfrm>
            <a:off x="-36360" y="113040"/>
            <a:ext cx="914400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nemocný ... pozitivní test: 70 %,    negativní test: 3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zdravý     ... pozitivní test: 10 %,    negativní test: 9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výsledky:    + – + –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P(+ – + – +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| 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N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0,7 x 0,3 x 0,7 x 0,3 x 0,7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 = 0,03087 = 3,087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P(+ – + – +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| Z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0,1 x 0,9 x 0,1 x 0,9 x 0,1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 = 0,00081 = 0,081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P(N)=P(Z)=0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flipH="1">
            <a:off x="3203280" y="654120"/>
            <a:ext cx="129708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498920" y="654120"/>
            <a:ext cx="136836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1476360" y="1951200"/>
            <a:ext cx="792000" cy="82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266920" y="1951200"/>
            <a:ext cx="865080" cy="75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6011640" y="1951200"/>
            <a:ext cx="865080" cy="82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75640" y="1951200"/>
            <a:ext cx="1009440" cy="82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35280" y="115920"/>
            <a:ext cx="180036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 0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00 li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651640" y="1085760"/>
            <a:ext cx="237636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 000             zdrav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84360" y="2706840"/>
            <a:ext cx="19432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309             + – + –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0920" y="2706840"/>
            <a:ext cx="180000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691     ji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164360" y="2706840"/>
            <a:ext cx="180036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992       ji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042920" y="1085760"/>
            <a:ext cx="23767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 000             nemocn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89440" y="2706840"/>
            <a:ext cx="19432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8                 + – + –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4920" y="5220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33"/>
                </a:solidFill>
                <a:latin typeface="Arial"/>
              </a:rPr>
              <a:t>Bay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2484360" y="4030560"/>
                <a:ext cx="41767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−</m:t>
                    </m:r>
                    <m:r>
                      <m:t xml:space="preserve">+</m:t>
                    </m:r>
                    <m:r>
                      <m:t xml:space="preserve">−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7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71280" y="5877000"/>
                <a:ext cx="21970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−</m:t>
                    </m:r>
                    <m:r>
                      <m:t xml:space="preserve">+</m:t>
                    </m:r>
                    <m:r>
                      <m:t xml:space="preserve">−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2340000" y="5678640"/>
                <a:ext cx="67690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,0309</m:t>
                        </m:r>
                        <m:r>
                          <m:t xml:space="preserve">⋅</m:t>
                        </m:r>
                        <m:r>
                          <m:t xml:space="preserve">0,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0,0309</m:t>
                        </m:r>
                        <m:r>
                          <m:t xml:space="preserve">⋅</m:t>
                        </m:r>
                        <m:r>
                          <m:t xml:space="preserve">0,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0,0008</m:t>
                        </m:r>
                        <m:r>
                          <m:t xml:space="preserve">⋅</m:t>
                        </m:r>
                        <m:r>
                          <m:t xml:space="preserve">0,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⋅</m:t>
                        </m:r>
                        <m:r>
                          <m:t xml:space="preserve">0,5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⋅</m:t>
                        </m:r>
                        <m:r>
                          <m:t xml:space="preserve">0,5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0,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7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 flipH="1">
            <a:off x="3203280" y="654120"/>
            <a:ext cx="129708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498920" y="654120"/>
            <a:ext cx="136836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1476360" y="1951200"/>
            <a:ext cx="792000" cy="82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66920" y="1951200"/>
            <a:ext cx="865080" cy="75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6011640" y="1951200"/>
            <a:ext cx="865080" cy="82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875640" y="1951200"/>
            <a:ext cx="1009440" cy="82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35280" y="115920"/>
            <a:ext cx="180036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 0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00 li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651640" y="1085760"/>
            <a:ext cx="237636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 000             zdrav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484360" y="2706840"/>
            <a:ext cx="19432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309             + – + –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50920" y="2706840"/>
            <a:ext cx="180000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691     ji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164360" y="2706840"/>
            <a:ext cx="180036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992       ji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042920" y="1085760"/>
            <a:ext cx="23767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 000             nemocn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789440" y="2706840"/>
            <a:ext cx="19432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8                 + – + –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20" y="5220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33"/>
                </a:solidFill>
                <a:latin typeface="Arial"/>
              </a:rPr>
              <a:t>Bay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2484360" y="4030560"/>
                <a:ext cx="41767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−</m:t>
                    </m:r>
                    <m:r>
                      <m:t xml:space="preserve">+</m:t>
                    </m:r>
                    <m:r>
                      <m:t xml:space="preserve">−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7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558720" y="5954760"/>
                <a:ext cx="80265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−</m:t>
                    </m:r>
                    <m:r>
                      <m:t xml:space="preserve">+</m:t>
                    </m:r>
                    <m:r>
                      <m:t xml:space="preserve">−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+</m:t>
                        </m:r>
                        <m:r>
                          <m:t xml:space="preserve">−</m:t>
                        </m:r>
                        <m:r>
                          <m:t xml:space="preserve">+</m:t>
                        </m:r>
                        <m:r>
                          <m:t xml:space="preserve">−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+</m:t>
                        </m:r>
                        <m:r>
                          <m:t xml:space="preserve">−</m:t>
                        </m:r>
                        <m:r>
                          <m:t xml:space="preserve">+</m:t>
                        </m:r>
                        <m:r>
                          <m:t xml:space="preserve">−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+</m:t>
                        </m:r>
                        <m:r>
                          <m:t xml:space="preserve">−</m:t>
                        </m:r>
                        <m:r>
                          <m:t xml:space="preserve">+</m:t>
                        </m:r>
                        <m:r>
                          <m:t xml:space="preserve">−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 flipH="1">
            <a:off x="3203280" y="3713040"/>
            <a:ext cx="129708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498920" y="3713040"/>
            <a:ext cx="136836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1476360" y="5010120"/>
            <a:ext cx="792000" cy="82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266920" y="5010120"/>
            <a:ext cx="865080" cy="75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6011640" y="5010120"/>
            <a:ext cx="865080" cy="82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875640" y="5010120"/>
            <a:ext cx="1009440" cy="82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6360" y="72000"/>
            <a:ext cx="914400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nemocný ... pozitivní test: 70 %,    negativní test: 3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zdravý     ... pozitivní test: 10 %,    negativní test: 9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výsledky:    + – + –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P(+ – + – +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| 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N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0,7 x 0,3 x 0,7 x 0,3 x 0,7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 = 0,03087 = 3,087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P(+ – + – +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| Z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0,1 x 0,9 x 0,1 x 0,9 x 0,1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 = 0,00081 = 0,081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P(N)=</a:t>
            </a:r>
            <a:r>
              <a:rPr b="1" lang="cs-CZ" sz="2400" spc="-1" strike="noStrike">
                <a:solidFill>
                  <a:srgbClr val="990033"/>
                </a:solidFill>
                <a:latin typeface="Arial"/>
              </a:rPr>
              <a:t>0,9          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P(Z)=0,</a:t>
            </a:r>
            <a:r>
              <a:rPr b="1" lang="cs-CZ" sz="24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635280" y="3174840"/>
            <a:ext cx="1944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 0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00 li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651640" y="4145040"/>
            <a:ext cx="237636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 000             zdrav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484360" y="5765760"/>
            <a:ext cx="19432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2778             + – + –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0920" y="5765760"/>
            <a:ext cx="180000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7 222     ji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164360" y="5765760"/>
            <a:ext cx="180036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992       ji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042920" y="4145040"/>
            <a:ext cx="23767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0 000             nemocn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789440" y="5765760"/>
            <a:ext cx="19432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8                 + – + –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684360" y="486792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71520" indent="-371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33"/>
                </a:solidFill>
                <a:latin typeface="Arial"/>
              </a:rPr>
              <a:t>P(N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| </a:t>
            </a:r>
            <a:r>
              <a:rPr b="1" lang="cs-CZ" sz="2400" spc="-1" strike="noStrike">
                <a:solidFill>
                  <a:srgbClr val="990033"/>
                </a:solidFill>
                <a:latin typeface="Arial"/>
              </a:rPr>
              <a:t>+ – + – +)</a:t>
            </a: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990033"/>
                </a:solidFill>
                <a:latin typeface="Arial"/>
              </a:rPr>
              <a:t>=</a:t>
            </a: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990033"/>
                </a:solidFill>
                <a:latin typeface="Arial"/>
              </a:rPr>
              <a:t>2778/2786 = 0,997 = 99,7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3203280" y="905040"/>
            <a:ext cx="129708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498920" y="905040"/>
            <a:ext cx="136836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1476360" y="2201760"/>
            <a:ext cx="792000" cy="82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266920" y="2201760"/>
            <a:ext cx="865080" cy="75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6011640" y="2201760"/>
            <a:ext cx="865080" cy="82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875640" y="2201760"/>
            <a:ext cx="1009440" cy="82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635280" y="366840"/>
            <a:ext cx="1944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 0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00 li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651640" y="1336680"/>
            <a:ext cx="237636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 000             zdrav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84360" y="2957400"/>
            <a:ext cx="19432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2778             + – + –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50920" y="2957400"/>
            <a:ext cx="180000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7 222     ji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164360" y="2957400"/>
            <a:ext cx="180036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992       ji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042920" y="1336680"/>
            <a:ext cx="23767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0 000             nemocn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789440" y="2957400"/>
            <a:ext cx="19432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8                 + – + –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79280" y="369144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33"/>
                </a:solidFill>
                <a:latin typeface="Arial"/>
              </a:rPr>
              <a:t>Bay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343080" y="4441680"/>
                <a:ext cx="802620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−</m:t>
                    </m:r>
                    <m:r>
                      <m:t xml:space="preserve">+</m:t>
                    </m:r>
                    <m:r>
                      <m:t xml:space="preserve">−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+</m:t>
                        </m:r>
                        <m:r>
                          <m:t xml:space="preserve">−</m:t>
                        </m:r>
                        <m:r>
                          <m:t xml:space="preserve">+</m:t>
                        </m:r>
                        <m:r>
                          <m:t xml:space="preserve">−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+</m:t>
                        </m:r>
                        <m:r>
                          <m:t xml:space="preserve">−</m:t>
                        </m:r>
                        <m:r>
                          <m:t xml:space="preserve">+</m:t>
                        </m:r>
                        <m:r>
                          <m:t xml:space="preserve">−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+</m:t>
                        </m:r>
                        <m:r>
                          <m:t xml:space="preserve">−</m:t>
                        </m:r>
                        <m:r>
                          <m:t xml:space="preserve">+</m:t>
                        </m:r>
                        <m:r>
                          <m:t xml:space="preserve">−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984240" y="5678640"/>
                <a:ext cx="770904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,03087</m:t>
                        </m:r>
                        <m:r>
                          <m:t xml:space="preserve">⋅</m:t>
                        </m:r>
                        <m:r>
                          <m:t xml:space="preserve">0,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0,03087</m:t>
                        </m:r>
                        <m:r>
                          <m:t xml:space="preserve">⋅</m:t>
                        </m:r>
                        <m:r>
                          <m:t xml:space="preserve">0,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0,00081</m:t>
                        </m:r>
                        <m:r>
                          <m:t xml:space="preserve">⋅</m:t>
                        </m:r>
                        <m:r>
                          <m:t xml:space="preserve">0,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087</m:t>
                        </m:r>
                        <m:r>
                          <m:t xml:space="preserve">⋅</m:t>
                        </m:r>
                        <m:r>
                          <m:t xml:space="preserve">0,9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087</m:t>
                        </m:r>
                        <m:r>
                          <m:t xml:space="preserve">⋅</m:t>
                        </m:r>
                        <m:r>
                          <m:t xml:space="preserve">0,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⋅</m:t>
                        </m:r>
                        <m:r>
                          <m:t xml:space="preserve">0,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9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1" name=""/>
          <p:cNvSpPr/>
          <p:nvPr/>
        </p:nvSpPr>
        <p:spPr>
          <a:xfrm>
            <a:off x="36360" y="72000"/>
            <a:ext cx="914400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nemocný ... pozitivní test: 70 %,    negativní test: 3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zdravý     ... pozitivní test: 10 %,    negativní test: 9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výsledky:    + – + –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P(+ – + – +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| 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N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0,7 x 0,3 x 0,7 x 0,3 x 0,7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 = 0,03087 = 3,087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P(+ – + – +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| Z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0,1 x 0,9 x 0,1 x 0,9 x 0,1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 = 0,00081 = 0,081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P(N)=</a:t>
            </a:r>
            <a:r>
              <a:rPr b="1" lang="cs-CZ" sz="2400" spc="-1" strike="noStrike">
                <a:solidFill>
                  <a:srgbClr val="990033"/>
                </a:solidFill>
                <a:latin typeface="Arial"/>
              </a:rPr>
              <a:t>0,9          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P(Z)=0,</a:t>
            </a:r>
            <a:r>
              <a:rPr b="1" lang="cs-CZ" sz="24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8000" y="189000"/>
            <a:ext cx="867564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Který závodník má podle kanceláře Sazka a.s. největší šanci stát se v roce 2010 mistrem světa ve formuli 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>
            <a:lum contrast="66000"/>
          </a:blip>
          <a:srcRect l="0" t="0" r="11096" b="41154"/>
          <a:stretch/>
        </p:blipFill>
        <p:spPr>
          <a:xfrm>
            <a:off x="457200" y="1852560"/>
            <a:ext cx="857880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4920" y="397872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33"/>
                </a:solidFill>
                <a:latin typeface="Arial"/>
              </a:rPr>
              <a:t>Bay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177840" y="4513320"/>
                <a:ext cx="87883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−</m:t>
                    </m:r>
                    <m:r>
                      <m:t xml:space="preserve">+</m:t>
                    </m:r>
                    <m:r>
                      <m:t xml:space="preserve">−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+</m:t>
                        </m:r>
                        <m:r>
                          <m:t xml:space="preserve">−</m:t>
                        </m:r>
                        <m:r>
                          <m:t xml:space="preserve">+</m:t>
                        </m:r>
                        <m:r>
                          <m:t xml:space="preserve">−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+</m:t>
                        </m:r>
                        <m:r>
                          <m:t xml:space="preserve">−</m:t>
                        </m:r>
                        <m:r>
                          <m:t xml:space="preserve">+</m:t>
                        </m:r>
                        <m:r>
                          <m:t xml:space="preserve">−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+</m:t>
                        </m:r>
                        <m:r>
                          <m:t xml:space="preserve">−</m:t>
                        </m:r>
                        <m:r>
                          <m:t xml:space="preserve">+</m:t>
                        </m:r>
                        <m:r>
                          <m:t xml:space="preserve">−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173160" y="5810400"/>
                <a:ext cx="88009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−</m:t>
                    </m:r>
                    <m:r>
                      <m:t xml:space="preserve">+</m:t>
                    </m:r>
                    <m:r>
                      <m:t xml:space="preserve">−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+</m:t>
                        </m:r>
                        <m:r>
                          <m:t xml:space="preserve">−</m:t>
                        </m:r>
                        <m:r>
                          <m:t xml:space="preserve">+</m:t>
                        </m:r>
                        <m:r>
                          <m:t xml:space="preserve">−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+</m:t>
                        </m:r>
                        <m:r>
                          <m:t xml:space="preserve">−</m:t>
                        </m:r>
                        <m:r>
                          <m:t xml:space="preserve">+</m:t>
                        </m:r>
                        <m:r>
                          <m:t xml:space="preserve">−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+</m:t>
                        </m:r>
                        <m:r>
                          <m:t xml:space="preserve">−</m:t>
                        </m:r>
                        <m:r>
                          <m:t xml:space="preserve">+</m:t>
                        </m:r>
                        <m:r>
                          <m:t xml:space="preserve">−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 flipH="1">
            <a:off x="3203280" y="654120"/>
            <a:ext cx="129708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498920" y="654120"/>
            <a:ext cx="136836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476360" y="1951200"/>
            <a:ext cx="792000" cy="82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266920" y="1951200"/>
            <a:ext cx="865080" cy="75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6011640" y="1951200"/>
            <a:ext cx="865080" cy="82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875640" y="1951200"/>
            <a:ext cx="1009440" cy="82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635280" y="115920"/>
            <a:ext cx="1944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 0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00 li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51640" y="1085760"/>
            <a:ext cx="237636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 000             zdrav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484360" y="2706840"/>
            <a:ext cx="19432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2778             + – + –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0920" y="2706840"/>
            <a:ext cx="180000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7 222     ji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164360" y="2706840"/>
            <a:ext cx="180036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992       ji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042920" y="1085760"/>
            <a:ext cx="23767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0 000             nemocn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789440" y="2706840"/>
            <a:ext cx="19432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8                 + – + –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395280" y="1700280"/>
            <a:ext cx="8209080" cy="1657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LOGICKÁ INTERPRET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95280" y="1998720"/>
            <a:ext cx="87487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PRAVDĚPODOBNOST</a:t>
            </a: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= míra racionálního přesvědčení o plat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určitého tvr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66"/>
                </a:solidFill>
                <a:latin typeface="Arial"/>
              </a:rPr>
              <a:t>Gottfried Wilhelm Leibniz (1646 – 1716), 167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66"/>
                </a:solidFill>
                <a:latin typeface="Arial"/>
              </a:rPr>
              <a:t>Bernard Bolzano (1781 – 1848), 183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66"/>
                </a:solidFill>
                <a:latin typeface="Arial"/>
              </a:rPr>
              <a:t>Tomáš Garrigue Masaryk (1851 – 1925), 188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66"/>
                </a:solidFill>
                <a:latin typeface="Arial"/>
              </a:rPr>
              <a:t>Johannes von Kries (1853 – 1928), 188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66"/>
                </a:solidFill>
                <a:latin typeface="Arial"/>
              </a:rPr>
              <a:t>John Maynard Keynes (1883 – 1946), 192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66"/>
                </a:solidFill>
                <a:latin typeface="Arial"/>
              </a:rPr>
              <a:t>Ludwig Wittgenstein (1889 – 1951), 192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66"/>
                </a:solidFill>
                <a:latin typeface="Arial"/>
              </a:rPr>
              <a:t>Emanuel Czuber (1851 – 1925), 192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66"/>
                </a:solidFill>
                <a:latin typeface="Arial"/>
              </a:rPr>
              <a:t>Otomar Pankraz (1903 – 1976), 193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66"/>
                </a:solidFill>
                <a:latin typeface="Arial"/>
              </a:rPr>
              <a:t>Rudolf Carnap (1891 – 1970), 19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68360" y="1413000"/>
            <a:ext cx="8136000" cy="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vidence: všichni doposud pozorovaní havrani byli černí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68360" y="299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ypotéza: všichni havrani jsou čer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789120" y="1368360"/>
            <a:ext cx="1247760" cy="105732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484960" y="1434960"/>
            <a:ext cx="1247760" cy="105732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3979800" y="1378080"/>
            <a:ext cx="1247760" cy="105732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2332080" y="1382760"/>
            <a:ext cx="1247760" cy="105732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5"/>
          <a:stretch/>
        </p:blipFill>
        <p:spPr>
          <a:xfrm>
            <a:off x="615960" y="3632040"/>
            <a:ext cx="1247760" cy="105732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6"/>
          <a:stretch/>
        </p:blipFill>
        <p:spPr>
          <a:xfrm>
            <a:off x="2073240" y="3641760"/>
            <a:ext cx="1247760" cy="10573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7"/>
          <a:stretch/>
        </p:blipFill>
        <p:spPr>
          <a:xfrm>
            <a:off x="3540240" y="3689280"/>
            <a:ext cx="1247760" cy="105732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8"/>
          <a:stretch/>
        </p:blipFill>
        <p:spPr>
          <a:xfrm>
            <a:off x="5111640" y="4079880"/>
            <a:ext cx="1247760" cy="105732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9"/>
          <a:stretch/>
        </p:blipFill>
        <p:spPr>
          <a:xfrm>
            <a:off x="4168800" y="4965840"/>
            <a:ext cx="1247760" cy="105696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10"/>
          <a:stretch/>
        </p:blipFill>
        <p:spPr>
          <a:xfrm>
            <a:off x="2987640" y="4870440"/>
            <a:ext cx="1247760" cy="105732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11"/>
          <a:stretch/>
        </p:blipFill>
        <p:spPr>
          <a:xfrm>
            <a:off x="1301760" y="4784760"/>
            <a:ext cx="1247760" cy="105732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12"/>
          <a:stretch/>
        </p:blipFill>
        <p:spPr>
          <a:xfrm>
            <a:off x="5597640" y="5384880"/>
            <a:ext cx="1247760" cy="105732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13"/>
          <a:stretch/>
        </p:blipFill>
        <p:spPr>
          <a:xfrm>
            <a:off x="5921280" y="3213000"/>
            <a:ext cx="1247760" cy="105732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14"/>
          <a:stretch/>
        </p:blipFill>
        <p:spPr>
          <a:xfrm>
            <a:off x="6730920" y="4289400"/>
            <a:ext cx="1247760" cy="105732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15"/>
          <a:stretch/>
        </p:blipFill>
        <p:spPr>
          <a:xfrm>
            <a:off x="6959520" y="5613480"/>
            <a:ext cx="1247760" cy="105732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16"/>
          <a:stretch/>
        </p:blipFill>
        <p:spPr>
          <a:xfrm>
            <a:off x="7397640" y="3470400"/>
            <a:ext cx="1247760" cy="105732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17"/>
          <a:stretch/>
        </p:blipFill>
        <p:spPr>
          <a:xfrm>
            <a:off x="2197080" y="5784840"/>
            <a:ext cx="1247760" cy="105732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18"/>
          <a:stretch/>
        </p:blipFill>
        <p:spPr>
          <a:xfrm>
            <a:off x="8388360" y="4797360"/>
            <a:ext cx="124776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000" y="189000"/>
            <a:ext cx="867564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Který závodník má podle kanceláře Sazka a.s. největší šanci stát se v roce 2010 mistrem světa ve formuli 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>
            <a:lum contrast="66000"/>
          </a:blip>
          <a:srcRect l="0" t="0" r="11096" b="40180"/>
          <a:stretch/>
        </p:blipFill>
        <p:spPr>
          <a:xfrm>
            <a:off x="601560" y="1852560"/>
            <a:ext cx="8434440" cy="4979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76360" y="3500280"/>
            <a:ext cx="8459640" cy="360360"/>
          </a:xfrm>
          <a:prstGeom prst="rect">
            <a:avLst/>
          </a:prstGeom>
          <a:solidFill>
            <a:srgbClr val="990033">
              <a:alpha val="29000"/>
            </a:srgbClr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000" y="188640"/>
            <a:ext cx="8675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Který závodník má podle kanceláře Sazka a.s. největší šanci stát se v roce 2010 mistrem světa ve formuli 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>
            <a:lum contrast="66000"/>
          </a:blip>
          <a:srcRect l="0" t="0" r="11096" b="31705"/>
          <a:stretch/>
        </p:blipFill>
        <p:spPr>
          <a:xfrm>
            <a:off x="25560" y="1852560"/>
            <a:ext cx="7067520" cy="5005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3284640"/>
            <a:ext cx="7093080" cy="360360"/>
          </a:xfrm>
          <a:prstGeom prst="rect">
            <a:avLst/>
          </a:prstGeom>
          <a:solidFill>
            <a:srgbClr val="990033">
              <a:alpha val="29000"/>
            </a:srgbClr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164360" y="2533320"/>
            <a:ext cx="21607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ázka 1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výhra 2,55 K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nebo n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4000" y="1039680"/>
            <a:ext cx="8459640" cy="2676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24000" y="3807000"/>
            <a:ext cx="8497800" cy="3006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89080" y="262080"/>
            <a:ext cx="8675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Podobně se můžeme ptát v následujících případec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. U které společnosti si máme vsadit na zápas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Španělsko – Honduras na MS ve fotbale 2010?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826920" y="1816200"/>
          <a:ext cx="6912000" cy="1687320"/>
        </p:xfrm>
        <a:graphic>
          <a:graphicData uri="http://schemas.openxmlformats.org/drawingml/2006/table">
            <a:tbl>
              <a:tblPr/>
              <a:tblGrid>
                <a:gridCol w="2322720"/>
                <a:gridCol w="1566720"/>
                <a:gridCol w="1511280"/>
                <a:gridCol w="1511280"/>
              </a:tblGrid>
              <a:tr h="422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(výhra Š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 (remíz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(výhra H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-at-h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tu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p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6:42:00Z</dcterms:created>
  <dc:creator>M</dc:creator>
  <dc:description/>
  <dc:language>en-US</dc:language>
  <cp:lastModifiedBy>M</cp:lastModifiedBy>
  <dcterms:modified xsi:type="dcterms:W3CDTF">2010-08-24T10:09:56Z</dcterms:modified>
  <cp:revision>31</cp:revision>
  <dc:subject/>
  <dc:title>Pravděpodobnost  – nástroj pro přežití</dc:title>
</cp:coreProperties>
</file>