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03A7-3284-49B8-BBF1-52B56867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C7F7-3418-4E6F-90D5-D02A5FEC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C6E-5120-47B5-9A99-B5014B1C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246A-4161-4DC1-90BA-9A07EE26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13F-EC1D-4832-BF1B-5C7EF190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888A-B258-403F-955A-E3BBBF36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43E1-F7C4-41F7-A2E2-1C082B63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0984-2AAE-4A66-9A41-A53EC2B5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0D6-22C5-402B-A81A-5ED0C7E7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5C8-22F8-478B-93DE-869E1655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ED00-42C3-4926-84E8-2DBD031D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FC2A-DFFA-44F8-AE22-13B43960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90161-33A0-4A72-83F8-FD5C8900F62C}" type="slidenum">
              <a: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1260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898640" y="611964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lší vzdělávání učitelů v Jihomoravském kr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informace o projektu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792000"/>
            <a:ext cx="95392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3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500" spc="-1" strike="noStrike">
                <a:solidFill>
                  <a:srgbClr val="0000ff"/>
                </a:solidFill>
                <a:latin typeface="Arial"/>
              </a:rPr>
              <a:t>Modulární systém dalšího vzdělávání pedagogických pracovníků JmK v přírodních vědách a informatice CZ.1.07/1.3.10/02.00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301680"/>
            <a:ext cx="903600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kladní 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58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463680"/>
                <a:tab algn="l" pos="91296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58920"/>
                <a:tab algn="l" pos="463680"/>
                <a:tab algn="l" pos="91296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 VK, GG JmK, oblast podpory 1.3, 2010-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58920"/>
                <a:tab algn="l" pos="463680"/>
                <a:tab algn="l" pos="91296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rodovědecká fakulta Masarykovy univerzity (+F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58920"/>
                <a:tab algn="l" pos="463680"/>
                <a:tab algn="l" pos="91296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ymnázium Brno, tř. kpt. Jaroše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58920"/>
                <a:tab algn="l" pos="463680"/>
                <a:tab algn="l" pos="91296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 partneři (zejména) z řad SŠ učite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463680"/>
                <a:tab algn="l" pos="91296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58920"/>
                <a:tab algn="l" pos="463680"/>
                <a:tab algn="l" pos="91296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ientace zejména na potřeby SŠ učite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58920"/>
                <a:tab algn="l" pos="463680"/>
                <a:tab algn="l" pos="91296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matika, Fyzika, Chemie, Biologie, Geografie, Informa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kladní 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000" y="185688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tiv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ktivizovat“ učitele a vzbudit v nich zájem o vlastní další vzděl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snadnit  učitelům přístup k novým poznatků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vést „standardní platformu“ pro osobní výměnu informací a zkušeností mezi učiteli navzá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lepšit komunikaci mezi SŠ a VŠ (PřF MU) a připravit tak půdu pro zkvalitnění přípravy budoucích učitel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kladní 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322280"/>
            <a:ext cx="9070920" cy="58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 projekt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ipravit a akreditovat standardizovaný systém kurzů dalšího vzdělávání v dotčených obor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o kurzů (smyslupně) začlenit soft-skills ak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ipravit několik sad výukových materiálů vhodně doplňujících standardní učebnice pro přímé použití ve výu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co největší míře využít zkušenosti učitelů ze SŠ jako lektorů kurzů a tvůrců výukových materiál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kur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roveň A: 5h kurz (½ odborná část, ½ metodicko-didaktická část) – cca pro 10 účastník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roveň B: 2denní kurz (odborná část, metodická část, interaktivní tabule, soft-skills aktivity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roveň C: 2dny+1+1 – oproti B navíc vlastní práce účastníků, diskuse o školské problematice oboru, návštěva reálné hodiny u partnera a následný rozb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urzy jsou plánovány pro každý obor zvlášť, je nicméně podporována (a plánována) mezioborová spolupráce – např. společné kurzy B v matematice a informat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 kurzu - Fyz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3816360" cy="6066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roveň A: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otivační blok pokusů: „Fyzikální experiment jako dobrodružství poznání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vrchové napětí: přednáška s návrhem alternativního výkladu pro střední školu doplněná sadou experiment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800360"/>
            <a:ext cx="4967280" cy="51084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DejaVu Sans"/>
              </a:rPr>
              <a:t>Úroveň B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Nobelovské experimenty od Roentgena po současnost″, fyzikálně historické přednášky o vybraných experimentech, za něž byla udělena Nobelova ce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Fyzikální měření s využitím počítače, od základů po moderní aplikace″, přednáška s mnoha praktickými ukázk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Využití počítače pro demonstrační i žákovské experimenty na střední škole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Fyzikální dílna″ -  výroba vlastních jednoduchých pomůcek pro využití počítače při fyzikálních experimentech, které budou moci bezprostředně využít ve vý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Nápady a tipy pro fyzikální praktikum na střední šk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alší inform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http://ucitele.sci.muni.c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21:08:53Z</dcterms:created>
  <dc:creator/>
  <dc:description/>
  <dc:language>en-US</dc:language>
  <cp:lastModifiedBy>Administrator</cp:lastModifiedBy>
  <dcterms:modified xsi:type="dcterms:W3CDTF">2010-08-24T09:59:07Z</dcterms:modified>
  <cp:revision>8</cp:revision>
  <dc:subject/>
  <dc:title>Snímek 1</dc:title>
</cp:coreProperties>
</file>