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D35-D263-4DE8-81F0-5AC2A3AD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B9C-9BA8-45CA-98DB-9DCD71E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400-441F-4662-88E0-E22B2946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DB4-5B6B-41ED-A5E1-D54F0689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80E-BBA9-409B-B23C-F0AE54C4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303-73E2-4A3D-B619-95137685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D46-FCBE-4AD3-AA95-4423F11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586-1752-40C5-8164-91EF21D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631-B6BB-4985-9ADF-DDC7059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AFF-423B-422E-9D9E-DD84BE1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1A2-F967-4C81-B6B1-10D03653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E45-DDF8-48D4-8886-63987DC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54E-61C4-4FB7-AC24-CC08F0E65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664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0000"/>
                </a:solidFill>
                <a:latin typeface="Arial"/>
              </a:rPr>
              <a:t>Bayesův vzorec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26920" y="3141720"/>
                <a:ext cx="71298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58840"/>
            <a:ext cx="882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říklad 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nka roz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je klienty, kterým poskytuje ú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, do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 kategorií. K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. kategorie (nejlepších) je 45 %, II. kategorie je 30 % a III. kategorie 25 %. Banka má zkušenos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 ú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 má po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5 % k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. kategorie, 10 % k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I. kategorie a 30 % k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II. kategorie. 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 prav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obnos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í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 a je ze III. 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ent, který má p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, je z III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3141720"/>
          <a:ext cx="8280360" cy="3382920"/>
        </p:xfrm>
        <a:graphic>
          <a:graphicData uri="http://schemas.openxmlformats.org/drawingml/2006/table">
            <a:tbl>
              <a:tblPr/>
              <a:tblGrid>
                <a:gridCol w="1843200"/>
                <a:gridCol w="954000"/>
                <a:gridCol w="1380960"/>
                <a:gridCol w="1384560"/>
                <a:gridCol w="1382400"/>
                <a:gridCol w="1335240"/>
              </a:tblGrid>
              <a:tr h="625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kli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2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íže se spláce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92360" y="4365720"/>
            <a:ext cx="1008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436572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36572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436572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5084640"/>
            <a:ext cx="1008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50846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0846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50846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5877000"/>
            <a:ext cx="1008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587700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587700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4720" y="587700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549360"/>
            <a:ext cx="6913440" cy="717480"/>
            <a:chOff x="250920" y="549360"/>
            <a:chExt cx="6913440" cy="717480"/>
          </a:xfrm>
        </p:grpSpPr>
        <p:sp>
          <p:nvSpPr>
            <p:cNvPr id="58" name=""/>
            <p:cNvSpPr/>
            <p:nvPr/>
          </p:nvSpPr>
          <p:spPr>
            <a:xfrm>
              <a:off x="3995640" y="549360"/>
              <a:ext cx="720720" cy="358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3640" y="549360"/>
              <a:ext cx="720720" cy="358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0920" y="907920"/>
              <a:ext cx="720720" cy="35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236000" y="907920"/>
            <a:ext cx="576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197000"/>
            <a:ext cx="72072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1197000"/>
            <a:ext cx="64764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00"/>
            <a:ext cx="8964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(a) náhodn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 vybraný klient bude mít potí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ž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e se splácen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í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 a je ze III. ka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klient, který má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, je z III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413000"/>
          <a:ext cx="8280360" cy="3382920"/>
        </p:xfrm>
        <a:graphic>
          <a:graphicData uri="http://schemas.openxmlformats.org/drawingml/2006/table">
            <a:tbl>
              <a:tblPr/>
              <a:tblGrid>
                <a:gridCol w="1843200"/>
                <a:gridCol w="954000"/>
                <a:gridCol w="1380960"/>
                <a:gridCol w="1384560"/>
                <a:gridCol w="1382400"/>
                <a:gridCol w="1335240"/>
              </a:tblGrid>
              <a:tr h="625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kli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2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íže se spláce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4000" y="5157720"/>
                <a:ext cx="23763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7812000" y="2708280"/>
            <a:ext cx="576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4221000"/>
            <a:ext cx="7189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9000"/>
            <a:ext cx="9325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a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í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(b) náhodn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 vybraný klient bude mít potí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ž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e se splácením a je ze III. kat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klient, který má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, je z III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413000"/>
          <a:ext cx="8280360" cy="3382920"/>
        </p:xfrm>
        <a:graphic>
          <a:graphicData uri="http://schemas.openxmlformats.org/drawingml/2006/table">
            <a:tbl>
              <a:tblPr/>
              <a:tblGrid>
                <a:gridCol w="1843200"/>
                <a:gridCol w="954000"/>
                <a:gridCol w="1380960"/>
                <a:gridCol w="1384560"/>
                <a:gridCol w="1382400"/>
                <a:gridCol w="1335240"/>
              </a:tblGrid>
              <a:tr h="625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kli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2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íže se spláce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4000" y="5157720"/>
                <a:ext cx="23763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348000" y="5157720"/>
                <a:ext cx="23763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740720" y="4221000"/>
            <a:ext cx="7189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2708280"/>
            <a:ext cx="576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9000"/>
            <a:ext cx="8964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a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í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hod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vybraný klient bude mít potí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 se splácením a je ze III. ka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(c) náhodn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 vybraný klient, který má potí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ž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e se splácením, je z III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k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413000"/>
          <a:ext cx="8280360" cy="3382920"/>
        </p:xfrm>
        <a:graphic>
          <a:graphicData uri="http://schemas.openxmlformats.org/drawingml/2006/table">
            <a:tbl>
              <a:tblPr/>
              <a:tblGrid>
                <a:gridCol w="1843200"/>
                <a:gridCol w="954000"/>
                <a:gridCol w="1380960"/>
                <a:gridCol w="1384560"/>
                <a:gridCol w="1382400"/>
                <a:gridCol w="1335240"/>
              </a:tblGrid>
              <a:tr h="625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kli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2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íže se spláce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24000" y="5157720"/>
                <a:ext cx="23763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348000" y="5157720"/>
                <a:ext cx="23763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00720" y="5157720"/>
                <a:ext cx="2376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7812000" y="2708280"/>
            <a:ext cx="576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2708280"/>
            <a:ext cx="576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6:42:23Z</dcterms:created>
  <dc:creator>Víťa Línek</dc:creator>
  <dc:description/>
  <dc:language>en-US</dc:language>
  <cp:lastModifiedBy>Víťa Línek</cp:lastModifiedBy>
  <dcterms:modified xsi:type="dcterms:W3CDTF">2010-08-24T11:04:28Z</dcterms:modified>
  <cp:revision>3</cp:revision>
  <dc:subject/>
  <dc:title>Snímek 1</dc:title>
</cp:coreProperties>
</file>