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1.wmf" ContentType="image/x-wmf"/>
  <Override PartName="/ppt/media/image29.png" ContentType="image/png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8.png" ContentType="image/png"/>
  <Override PartName="/ppt/media/image15.wmf" ContentType="image/x-wmf"/>
  <Override PartName="/ppt/media/image58.png" ContentType="image/png"/>
  <Override PartName="/ppt/media/image61.wmf" ContentType="image/x-wmf"/>
  <Override PartName="/ppt/media/image57.wmf" ContentType="image/x-wmf"/>
  <Override PartName="/ppt/media/image20.wmf" ContentType="image/x-wmf"/>
  <Override PartName="/ppt/media/image63.png" ContentType="image/png"/>
  <Override PartName="/ppt/media/image24.wmf" ContentType="image/x-wmf"/>
  <Override PartName="/ppt/media/image21.wmf" ContentType="image/x-wmf"/>
  <Override PartName="/ppt/media/image22.png" ContentType="image/png"/>
  <Override PartName="/ppt/media/image62.wmf" ContentType="image/x-wmf"/>
  <Override PartName="/ppt/media/image23.wmf" ContentType="image/x-wmf"/>
  <Override PartName="/ppt/media/image25.png" ContentType="image/png"/>
  <Override PartName="/ppt/media/image65.wmf" ContentType="image/x-wmf"/>
  <Override PartName="/ppt/media/image72.wmf" ContentType="image/x-wmf"/>
  <Override PartName="/ppt/media/image71.png" ContentType="image/png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70.png" ContentType="image/png"/>
  <Override PartName="/ppt/media/image68.wmf" ContentType="image/x-wmf"/>
  <Override PartName="/ppt/media/image31.wmf" ContentType="image/x-wmf"/>
  <Override PartName="/ppt/media/image6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66.wmf" ContentType="image/x-wmf"/>
  <Override PartName="/ppt/media/image64.wmf" ContentType="image/x-wmf"/>
  <Override PartName="/ppt/media/image27.wmf" ContentType="image/x-wmf"/>
  <Override PartName="/ppt/media/image26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6.wmf" ContentType="image/x-wmf"/>
  <Override PartName="/ppt/media/image60.wmf" ContentType="image/x-wmf"/>
  <Override PartName="/ppt/media/image38.png" ContentType="image/png"/>
  <Override PartName="/ppt/media/image41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9.wmf" ContentType="image/x-wmf"/>
  <Override PartName="/ppt/media/image39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10.png" ContentType="image/png"/>
  <Override PartName="/ppt/media/image50.wmf" ContentType="image/x-wmf"/>
  <Override PartName="/ppt/media/image1.wmf" ContentType="image/x-wmf"/>
  <Override PartName="/ppt/media/image13.wmf" ContentType="image/x-wmf"/>
  <Override PartName="/ppt/media/image30.wmf" ContentType="image/x-wmf"/>
  <Override PartName="/ppt/media/image73.png" ContentType="image/png"/>
  <Override PartName="/ppt/media/image34.wmf" ContentType="image/x-wmf"/>
  <Override PartName="/ppt/media/image33.wmf" ContentType="image/x-wmf"/>
  <Override PartName="/ppt/media/image52.jpeg" ContentType="image/jpeg"/>
  <Override PartName="/ppt/media/image35.png" ContentType="image/png"/>
  <Override PartName="/ppt/media/image4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4439-C7D6-4FCB-A225-EBD43C98B34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F6D3-8822-4C1B-821E-D858130406E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FC82-8753-4BE5-8FD1-EA0C4EFC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6D85-086C-4983-8C37-9A332184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F184-DCD5-413B-95AD-581862F3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2B3D-F89A-4ED5-A8A7-5EA3D65E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9367D-3408-4DD1-9D6B-79EF0DD3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4ED65-9FEC-41F9-8560-25BEFDBB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9720B-1A3B-4AE4-9F5B-884F6C8C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E17A3-E4C3-44AD-9116-BA926B49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A9CF8-CAE2-4D11-9B78-247A412F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5499A-B170-47A1-B646-46105C58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089E7-6B91-401B-9115-A43D82EC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C402-47CC-4BF0-AF07-26044852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E2745-6F5C-4F9E-9822-915B1CFE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10938-9901-402E-82D6-B3FCFAAB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F6D6A-387F-461C-AD57-974E4BDC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49F2C-51F3-4477-8138-3027A638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E49FA-E96C-40FC-A96B-AAB1BBF4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6C418-3130-4EF0-A17E-9F7F96A2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AD971-4D3C-4D7B-8875-C427C2C8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2254E-D234-4A14-9E10-36C1C0B1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A76F4-9CE2-4CB9-9B6B-71B061DD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68A68-17C9-4FEC-BC7F-015F62D2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3640-E63D-4E8A-826F-D0EE0439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5CB82-0F33-417E-A191-4CA25321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59C68-A537-4254-AC01-2C8723FE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A4163-C947-40CF-8D7A-77A1A545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E1C81-9DE3-48A7-BFC9-2A113A92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B6E23-6B29-4029-9C09-11413A73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10249-A187-42D3-93C8-D3CA13CD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270B1-3867-40D4-A30F-5BEF78AD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0BEA-B126-459F-832D-EFE593FD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C265-D121-4ACF-88F4-3248F048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D27A-0490-43D2-B499-084A3A9B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F98-02E6-40B0-98F4-5D3323B7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DEB0-CD05-4647-A3D6-78C27A2D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61E4-91E2-4B0D-AE5B-A11B774D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B19C-CE51-43A5-8598-0244C410368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31BC-8151-47FD-8A0D-E800DB9E50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C5DE-1FDF-4C04-9C84-E1A964C94E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lib/" TargetMode="External"/><Relationship Id="rId2" Type="http://schemas.openxmlformats.org/officeDocument/2006/relationships/hyperlink" Target="file://lib/" TargetMode="External"/><Relationship Id="rId3" Type="http://schemas.openxmlformats.org/officeDocument/2006/relationships/hyperlink" Target="file://lib/M_Mathematics/" TargetMode="External"/><Relationship Id="rId4" Type="http://schemas.openxmlformats.org/officeDocument/2006/relationships/hyperlink" Target="file://lib/M_Mathematics/" TargetMode="External"/><Relationship Id="rId5" Type="http://schemas.openxmlformats.org/officeDocument/2006/relationships/hyperlink" Target="file://lib/M_Mathematics/MA_Algebra/" TargetMode="External"/><Relationship Id="rId6" Type="http://schemas.openxmlformats.org/officeDocument/2006/relationships/hyperlink" Target="file://lib/M_Mathematics/MA_Algebra/MAco_Computational%20algebra/" TargetMode="External"/><Relationship Id="rId7" Type="http://schemas.openxmlformats.org/officeDocument/2006/relationships/hyperlink" Target="file://lib/M_Mathematics/MA_Algebra/MAco_Computational%20algebra/" TargetMode="External"/><Relationship Id="rId8" Type="http://schemas.openxmlformats.org/officeDocument/2006/relationships/hyperlink" Target="file://lib/M_Mathematics/MA_Algebra/MAco_Computational%20algebra/" TargetMode="External"/><Relationship Id="rId9" Type="http://schemas.openxmlformats.org/officeDocument/2006/relationships/hyperlink" Target="file://lib/M_Mathematics/MA_Algebra/MAco_Computational%20algebra/" TargetMode="External"/><Relationship Id="rId10" Type="http://schemas.openxmlformats.org/officeDocument/2006/relationships/image" Target="../media/image37.wmf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slideLayout" Target="../slideLayouts/slideLayout26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3516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5280" y="501480"/>
            <a:ext cx="842472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57240" y="304920"/>
            <a:ext cx="722808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57240" y="1209600"/>
            <a:ext cx="722808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064360" cy="1728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822960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388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985080" cy="1511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11280" y="2565360"/>
            <a:ext cx="770580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632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84040" y="736560"/>
            <a:ext cx="857412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62080" y="411120"/>
            <a:ext cx="8619840" cy="60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"/>
          <p:cNvPicPr/>
          <p:nvPr/>
        </p:nvPicPr>
        <p:blipFill>
          <a:blip r:embed="rId1"/>
          <a:stretch/>
        </p:blipFill>
        <p:spPr>
          <a:xfrm>
            <a:off x="357120" y="196920"/>
            <a:ext cx="820440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480" y="546120"/>
            <a:ext cx="912960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447840" y="1774800"/>
            <a:ext cx="8248320" cy="3308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539640" y="5157720"/>
            <a:ext cx="7971120" cy="7542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us lidského důvtipu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469800" y="1819440"/>
            <a:ext cx="82044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517680" y="352440"/>
            <a:ext cx="81086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423720" y="328680"/>
            <a:ext cx="829476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423720" y="947880"/>
            <a:ext cx="829476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353880" y="644400"/>
            <a:ext cx="8434440" cy="55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399960" y="660240"/>
            <a:ext cx="834228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469800" y="830160"/>
            <a:ext cx="820260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469800" y="757080"/>
            <a:ext cx="8202600" cy="53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447840" y="795240"/>
            <a:ext cx="824832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301680"/>
            <a:ext cx="8569080" cy="62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447840" y="487440"/>
            <a:ext cx="824832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53880" y="941400"/>
            <a:ext cx="843444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50920" y="615960"/>
            <a:ext cx="856908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Knihy na webu (raději v knihovně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om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b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_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athematic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MA_Algebr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MAco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_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Computational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algebr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hou S. C. Механическое доказательство теорем геометрии (ISBN 90277265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ou S.-C. Mechanical geometry theorem proving (1988)(ISBN 9027726507)(L)(T)(187s).dj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iz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4.5Mb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Jan 15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 WinDj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0"/>
          <a:stretch/>
        </p:blipFill>
        <p:spPr>
          <a:xfrm>
            <a:off x="5070600" y="1600200"/>
            <a:ext cx="3193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7752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95280" y="938160"/>
            <a:ext cx="835344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49160" y="243000"/>
            <a:ext cx="764568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68120" y="900000"/>
            <a:ext cx="880596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6160" y="658800"/>
            <a:ext cx="885168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2400" y="888840"/>
            <a:ext cx="8897760" cy="5085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68120" y="466560"/>
            <a:ext cx="880596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-61920" y="61920"/>
            <a:ext cx="9269280" cy="67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Eliminace kvantifikátorů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    </a:t>
            </a: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Trochu odstrašující název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Budeme však pracovat s asi nejrozšířenější matematickou strukturou, s tělesem reálných číse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Ú</a:t>
            </a: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zká  souvislost se středoškolskou matematikou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1.  Je pro všechna reálná  </a:t>
            </a:r>
            <a:r>
              <a:rPr b="0" i="1" lang="cs-CZ" sz="3200" spc="-1" strike="noStrike">
                <a:solidFill>
                  <a:srgbClr val="ffcc00"/>
                </a:solidFill>
                <a:latin typeface="Garamond"/>
              </a:rPr>
              <a:t>x</a:t>
            </a:r>
            <a:r>
              <a:rPr b="1" i="1" lang="cs-CZ" sz="32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výraz       + 1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&gt;</a:t>
            </a: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 0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0" lang="cs-CZ" sz="3200" spc="-1" strike="noStrike">
                <a:solidFill>
                  <a:srgbClr val="ff0000"/>
                </a:solidFill>
                <a:latin typeface="Garamond"/>
              </a:rPr>
              <a:t>ANO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276720" y="196848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9684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516720" y="4869000"/>
          <a:ext cx="38088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869000"/>
                    <a:ext cx="3808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Střední škola, kvadratické rovnice…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2. Kdy má kvadratická rovnice                   = 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reálný koř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aramond"/>
              </a:rPr>
              <a:t>Právě tehdy, když              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≥</a:t>
            </a:r>
            <a:r>
              <a:rPr b="0" lang="cs-CZ" sz="3200" spc="-1" strike="noStrike">
                <a:solidFill>
                  <a:srgbClr val="ff0000"/>
                </a:solidFill>
                <a:latin typeface="Garamond"/>
              </a:rPr>
              <a:t> 0 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Co se stalo? Zapišm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1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a  tato formule obsahuje jedinou proměnnou </a:t>
            </a:r>
            <a:r>
              <a:rPr b="0" i="1" lang="cs-CZ" sz="3200" spc="-1" strike="noStrike">
                <a:solidFill>
                  <a:srgbClr val="ffcc00"/>
                </a:solidFill>
                <a:latin typeface="Garamond"/>
              </a:rPr>
              <a:t>x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vázanou obecným kvantifikátor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Garamond"/>
              </a:rPr>
              <a:t>Ekvivalentní formule: kvantifikátor „zmizí“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796000" y="1197000"/>
          <a:ext cx="18032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1197000"/>
                    <a:ext cx="18032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419640" y="2421000"/>
          <a:ext cx="125712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2421000"/>
                    <a:ext cx="12571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042920" y="3573360"/>
          <a:ext cx="3314880" cy="66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3573360"/>
                    <a:ext cx="331488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Ukázka eliminace kvantifikátorů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Zmizela též vázaná proměnná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cs-CZ" sz="3200" spc="-1" strike="noStrike">
                <a:solidFill>
                  <a:srgbClr val="ffcc00"/>
                </a:solidFill>
                <a:latin typeface="Garamond"/>
              </a:rPr>
              <a:t>x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Ekvivalentní formule neobsahuje již žádné proměnné.  Například </a:t>
            </a:r>
            <a:r>
              <a:rPr b="1" lang="cs-CZ" sz="3200" spc="-1" strike="noStrike">
                <a:solidFill>
                  <a:srgbClr val="ff0000"/>
                </a:solidFill>
                <a:latin typeface="Garamond"/>
              </a:rPr>
              <a:t>0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&lt;</a:t>
            </a:r>
            <a:r>
              <a:rPr b="1" lang="cs-CZ" sz="3200" spc="-1" strike="noStrike">
                <a:solidFill>
                  <a:srgbClr val="ff0000"/>
                </a:solidFill>
                <a:latin typeface="Garamond"/>
              </a:rPr>
              <a:t> 1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Ale o pravdivosti takové formule lze snadno rozhodnout – </a:t>
            </a:r>
            <a:r>
              <a:rPr b="1" lang="cs-CZ" sz="3200" spc="-1" strike="noStrike">
                <a:solidFill>
                  <a:srgbClr val="ff0000"/>
                </a:solidFill>
                <a:latin typeface="Garamond"/>
              </a:rPr>
              <a:t>platí 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2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Tato formule obsahuje  vázanou proměnnou </a:t>
            </a:r>
            <a:r>
              <a:rPr b="0" i="1" lang="cs-CZ" sz="3200" spc="-1" strike="noStrike">
                <a:solidFill>
                  <a:srgbClr val="ffcc00"/>
                </a:solidFill>
                <a:latin typeface="Garamond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a dvě volné proměnné </a:t>
            </a:r>
            <a:r>
              <a:rPr b="1" i="1" lang="cs-CZ" sz="3200" spc="-1" strike="noStrike">
                <a:solidFill>
                  <a:srgbClr val="ffcc00"/>
                </a:solidFill>
                <a:latin typeface="Garamond"/>
              </a:rPr>
              <a:t>p</a:t>
            </a: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, </a:t>
            </a:r>
            <a:r>
              <a:rPr b="1" i="1" lang="cs-CZ" sz="3200" spc="-1" strike="noStrike">
                <a:solidFill>
                  <a:srgbClr val="ffcc00"/>
                </a:solidFill>
                <a:latin typeface="Garamond"/>
              </a:rPr>
              <a:t>q</a:t>
            </a: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042920" y="4365720"/>
          <a:ext cx="431820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365720"/>
                    <a:ext cx="431820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Volné proměnné </a:t>
            </a:r>
            <a:r>
              <a:rPr b="1" i="1" lang="en-US" sz="3600" spc="-1" strike="noStrike">
                <a:solidFill>
                  <a:srgbClr val="ffcc00"/>
                </a:solidFill>
                <a:latin typeface="Garamond"/>
              </a:rPr>
              <a:t>p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, </a:t>
            </a:r>
            <a:r>
              <a:rPr b="1" i="1" lang="en-US" sz="3600" spc="-1" strike="noStrike">
                <a:solidFill>
                  <a:srgbClr val="ffcc00"/>
                </a:solidFill>
                <a:latin typeface="Garamond"/>
              </a:rPr>
              <a:t>q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 v ekvivalentní formuli zůstaly! </a:t>
            </a:r>
            <a:r>
              <a:rPr b="0" lang="en-US" sz="4000" spc="-1" strike="noStrike">
                <a:solidFill>
                  <a:srgbClr val="ffcc00"/>
                </a:solidFill>
                <a:latin typeface="Garamond"/>
              </a:rPr>
              <a:t>Náhoda?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3816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Garamond"/>
              </a:rPr>
              <a:t>Tarski považován za jednoho z největších logiků lidské historie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Garamond"/>
              </a:rPr>
              <a:t>Věnoval se teorii množin, výrokové logice, logice prvního řádu a nekonečné logice, rozhodovacím problémům, sémantice, teorii modelů, univerzální algebře, booleovské algebře a teorii svazů, algebraické logice, teorii míry, základům a metamatematice geometrie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17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00"/>
                </a:solidFill>
                <a:latin typeface="Garamond"/>
              </a:rPr>
              <a:t>Tarski dokázal, že eliminace kvantifikátorů v tzv. reálně uzavřených tělesech je možná.</a:t>
            </a: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Garamond"/>
              </a:rPr>
              <a:t>Věta 1</a:t>
            </a:r>
            <a:r>
              <a:rPr b="0" lang="cs-CZ" sz="3200" spc="-1" strike="noStrike">
                <a:solidFill>
                  <a:srgbClr val="ff0000"/>
                </a:solidFill>
                <a:latin typeface="Garamond"/>
              </a:rPr>
              <a:t>:</a:t>
            </a: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cs-CZ" sz="3600" spc="-1" strike="noStrike">
                <a:solidFill>
                  <a:srgbClr val="ffcc00"/>
                </a:solidFill>
                <a:latin typeface="Garamond"/>
              </a:rPr>
              <a:t>Nechť</a:t>
            </a:r>
            <a:r>
              <a:rPr b="0" lang="cs-CZ" sz="3600" spc="-1" strike="noStrike">
                <a:solidFill>
                  <a:srgbClr val="ffcc00"/>
                </a:solidFill>
                <a:latin typeface="Garamond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cc00"/>
                </a:solidFill>
                <a:latin typeface="Garamond"/>
              </a:rPr>
              <a:t>G</a:t>
            </a:r>
            <a:r>
              <a:rPr b="1" lang="cs-CZ" sz="3600" spc="-1" strike="noStrike">
                <a:solidFill>
                  <a:srgbClr val="ffcc00"/>
                </a:solidFill>
                <a:latin typeface="Garamond"/>
              </a:rPr>
              <a:t>  =</a:t>
            </a:r>
            <a:r>
              <a:rPr b="0" lang="cs-CZ" sz="36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cs-CZ" sz="3600" spc="-1" strike="noStrike">
                <a:solidFill>
                  <a:srgbClr val="ffcc00"/>
                </a:solidFill>
                <a:latin typeface="Garamond"/>
              </a:rPr>
              <a:t>je kvantifikovaná formule zapsaná v prenexním tvaru, v níž jsou proměnné  volné a proměnné  vázané (tj.</a:t>
            </a:r>
            <a:r>
              <a:rPr b="0" lang="cs-CZ" sz="3600" spc="-1" strike="noStrike">
                <a:solidFill>
                  <a:srgbClr val="ffcc00"/>
                </a:solidFill>
                <a:latin typeface="Garamond"/>
              </a:rPr>
              <a:t> </a:t>
            </a:r>
            <a:br>
              <a:rPr sz="3600"/>
            </a:br>
            <a:r>
              <a:rPr b="0" i="1" lang="cs-CZ" sz="3600" spc="-1" strike="noStrike">
                <a:solidFill>
                  <a:srgbClr val="ffcc00"/>
                </a:solidFill>
                <a:latin typeface="Garamond"/>
              </a:rPr>
              <a:t>Qi</a:t>
            </a:r>
            <a:r>
              <a:rPr b="0" lang="cs-CZ" sz="3600" spc="-1" strike="noStrike">
                <a:solidFill>
                  <a:srgbClr val="ffcc00"/>
                </a:solidFill>
                <a:latin typeface="Garamond"/>
              </a:rPr>
              <a:t> ,</a:t>
            </a:r>
            <a:r>
              <a:rPr b="0" i="1" lang="cs-CZ" sz="3600" spc="-1" strike="noStrike">
                <a:solidFill>
                  <a:srgbClr val="ffcc00"/>
                </a:solidFill>
                <a:latin typeface="Garamond"/>
              </a:rPr>
              <a:t> i</a:t>
            </a:r>
            <a:r>
              <a:rPr b="0" lang="cs-CZ" sz="3600" spc="-1" strike="noStrike">
                <a:solidFill>
                  <a:srgbClr val="ffcc00"/>
                </a:solidFill>
                <a:latin typeface="Garamond"/>
              </a:rPr>
              <a:t> = </a:t>
            </a:r>
            <a:r>
              <a:rPr b="0" i="1" lang="cs-CZ" sz="3600" spc="-1" strike="noStrike">
                <a:solidFill>
                  <a:srgbClr val="ffcc00"/>
                </a:solidFill>
                <a:latin typeface="Garamond"/>
              </a:rPr>
              <a:t>m + </a:t>
            </a:r>
            <a:r>
              <a:rPr b="0" lang="cs-CZ" sz="3600" spc="-1" strike="noStrike">
                <a:solidFill>
                  <a:srgbClr val="ffcc00"/>
                </a:solidFill>
                <a:latin typeface="Garamond"/>
              </a:rPr>
              <a:t>1, ..., </a:t>
            </a:r>
            <a:r>
              <a:rPr b="0" i="1" lang="cs-CZ" sz="3600" spc="-1" strike="noStrike">
                <a:solidFill>
                  <a:srgbClr val="ffcc00"/>
                </a:solidFill>
                <a:latin typeface="Garamond"/>
              </a:rPr>
              <a:t>n</a:t>
            </a:r>
            <a:r>
              <a:rPr b="0" lang="cs-CZ" sz="36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cs-CZ" sz="3600" spc="-1" strike="noStrike">
                <a:solidFill>
                  <a:srgbClr val="ffcc00"/>
                </a:solidFill>
                <a:latin typeface="Garamond"/>
              </a:rPr>
              <a:t>značí buďto existenční kvantifikátor </a:t>
            </a:r>
            <a:r>
              <a:rPr b="1" lang="cs-CZ" sz="3600" spc="-1" strike="noStrike">
                <a:solidFill>
                  <a:srgbClr val="ffcc00"/>
                </a:solidFill>
                <a:latin typeface="Mathematica1"/>
                <a:ea typeface="Mathematica1"/>
              </a:rPr>
              <a:t></a:t>
            </a:r>
            <a:r>
              <a:rPr b="1" lang="cs-CZ" sz="3600" spc="-1" strike="noStrike">
                <a:solidFill>
                  <a:srgbClr val="ffcc00"/>
                </a:solidFill>
                <a:latin typeface="Garamond"/>
              </a:rPr>
              <a:t> nebo obecný kvantifikátor </a:t>
            </a:r>
            <a:r>
              <a:rPr b="1" lang="cs-CZ" sz="3600" spc="-1" strike="noStrike">
                <a:solidFill>
                  <a:srgbClr val="ffcc00"/>
                </a:solidFill>
                <a:latin typeface="Mathematica1"/>
                <a:ea typeface="Mathematica1"/>
              </a:rPr>
              <a:t></a:t>
            </a:r>
            <a:r>
              <a:rPr b="1" lang="cs-CZ" sz="3600" spc="-1" strike="noStrike">
                <a:solidFill>
                  <a:srgbClr val="ffcc00"/>
                </a:solidFill>
                <a:latin typeface="Garamond"/>
              </a:rPr>
              <a:t>)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476360" y="2852640"/>
          <a:ext cx="580392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852640"/>
                    <a:ext cx="58039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                           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je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logickou kombinací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polynomiálních rovnic a nerovnic s celočíselnými koeficienty v proměnných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280" y="2420640"/>
            <a:ext cx="7553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Pak existuje formule </a:t>
            </a:r>
            <a:r>
              <a:rPr b="1" i="1" lang="en-US" sz="3200" spc="-1" strike="noStrike">
                <a:solidFill>
                  <a:srgbClr val="ffcc00"/>
                </a:solidFill>
                <a:latin typeface="Garamond"/>
              </a:rPr>
              <a:t>H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v proměnnýc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která již neobsahuje kvantifikátory a která je ekvivalentní formuli </a:t>
            </a:r>
            <a:r>
              <a:rPr b="1" i="1" lang="en-US" sz="3200" spc="-1" strike="noStrike">
                <a:solidFill>
                  <a:srgbClr val="ffcc00"/>
                </a:solidFill>
                <a:latin typeface="Garamond"/>
              </a:rPr>
              <a:t>G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826920" y="404640"/>
          <a:ext cx="240048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04640"/>
                    <a:ext cx="240048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4881600" y="1700280"/>
          <a:ext cx="181620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81600" y="1700280"/>
                    <a:ext cx="18162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954000" y="3141720"/>
          <a:ext cx="1892520" cy="48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54000" y="3141720"/>
                    <a:ext cx="18925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Garamond"/>
              </a:rPr>
              <a:t>Hlavní výsledek získal Tarski v r. 1930 a jeho důsledky poprvé zmínil v tisku o rok později.</a:t>
            </a: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Přetížení vědeckou prací, mnoho jiných vědeckých zájmů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Trvalo devět let, než  byla monografie</a:t>
            </a: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Garamond"/>
              </a:rPr>
              <a:t>The completness of elementary algebra and geometry</a:t>
            </a: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obsahující tyto výsledky připravena do tisku.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Sborník Actualités scientifiques et industrielles, Hermann &amp; Ci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, Paříž 193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8120" y="119160"/>
            <a:ext cx="880596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Zbyly dva exempláře sloupcových korektur…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03280" y="1628280"/>
            <a:ext cx="6400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00"/>
                </a:solidFill>
                <a:latin typeface="Garamond"/>
              </a:rPr>
              <a:t>Nová šance k publikování až v souvislosti s projektem RAND.</a:t>
            </a: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Vznikla práce</a:t>
            </a: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Garamond"/>
              </a:rPr>
              <a:t>A Decision Method for Elementary Algebra and Geometry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(1948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Teorie (prvního řádu) reálně uzavřených těles je rozhodnutelná!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Garamond"/>
              </a:rPr>
              <a:t>Výpočetně krajně složit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00"/>
                </a:solidFill>
                <a:latin typeface="Garamond"/>
              </a:rPr>
              <a:t>Následovníci provedli jistá zjednodušení (Seidenberg 1954, Cohen 1969)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Zásadní snížení výpočetní složitosti přinesla </a:t>
            </a:r>
            <a:r>
              <a:rPr b="1" lang="cs-CZ" sz="3200" spc="-1" strike="noStrike">
                <a:solidFill>
                  <a:srgbClr val="ff0000"/>
                </a:solidFill>
                <a:latin typeface="Garamond"/>
              </a:rPr>
              <a:t>metoda cylindrické algebraické dekompozice</a:t>
            </a: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 (CAD), navržená Georgem Collinsem v r. 1975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Jednorozměrný případ známe ze školní prax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Jakých hodnot (a kde) nabývá polynom </a:t>
            </a:r>
            <a:br>
              <a:rPr sz="3200"/>
            </a:br>
            <a:r>
              <a:rPr b="1" i="1" lang="cs-CZ" sz="3200" spc="-1" strike="noStrike">
                <a:solidFill>
                  <a:srgbClr val="ffcc00"/>
                </a:solidFill>
                <a:latin typeface="Garamond"/>
              </a:rPr>
              <a:t>f </a:t>
            </a: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(</a:t>
            </a:r>
            <a:r>
              <a:rPr b="1" i="1" lang="cs-CZ" sz="3200" spc="-1" strike="noStrike">
                <a:solidFill>
                  <a:srgbClr val="ffcc00"/>
                </a:solidFill>
                <a:latin typeface="Garamond"/>
              </a:rPr>
              <a:t>x</a:t>
            </a: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) =          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Idea: znázorni na ose </a:t>
            </a:r>
            <a:r>
              <a:rPr b="1" i="1" lang="cs-CZ" sz="3200" spc="-1" strike="noStrike">
                <a:solidFill>
                  <a:srgbClr val="ffcc00"/>
                </a:solidFill>
                <a:latin typeface="Garamond"/>
              </a:rPr>
              <a:t>x</a:t>
            </a: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 kořeny polynomu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979640" y="4724280"/>
          <a:ext cx="88884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4724280"/>
                    <a:ext cx="8888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ve vzniklých otevřených intervalech rozhodneš o znaménku výpočtem funkčních hodnot ve vhodně zvolených vnitřních bodech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CAD ve vyšší dimenzi  výrazně složitější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Několik fází: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1. normalizační fáz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2. projekční fáz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3. fáze zdviže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4. konstrukce formule </a:t>
            </a:r>
            <a:r>
              <a:rPr b="0" lang="en-US" sz="3200" spc="-1" strike="noStrike">
                <a:solidFill>
                  <a:srgbClr val="ffcc00"/>
                </a:solidFill>
                <a:latin typeface="Mathematica1"/>
                <a:ea typeface="Mathematica1"/>
              </a:rPr>
              <a:t>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-883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Metoda CAD byla v pozdějších letech vylepšována </a:t>
            </a:r>
            <a:r>
              <a:rPr b="1" lang="cs-CZ" sz="3600" spc="-1" strike="noStrike">
                <a:solidFill>
                  <a:srgbClr val="ffcc00"/>
                </a:solidFill>
                <a:latin typeface="Garamond"/>
              </a:rPr>
              <a:t>zejména</a:t>
            </a:r>
            <a:r>
              <a:rPr b="1" lang="cs-CZ" sz="3200" spc="-1" strike="noStrike">
                <a:solidFill>
                  <a:srgbClr val="ff0000"/>
                </a:solidFill>
                <a:latin typeface="Garamond"/>
              </a:rPr>
              <a:t> Hoon Hongem </a:t>
            </a: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a byl vytvořen interaktivní program</a:t>
            </a:r>
            <a:r>
              <a:rPr b="1" lang="cs-CZ" sz="3200" spc="-1" strike="noStrike">
                <a:solidFill>
                  <a:srgbClr val="ff0000"/>
                </a:solidFill>
                <a:latin typeface="Garamond"/>
              </a:rPr>
              <a:t> QEPCAD. </a:t>
            </a: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Zásluhou prof. Christophera W. Browna nalezne zájemce bohatou dokumentaci o tomto programu na adrese</a:t>
            </a:r>
            <a:r>
              <a:rPr b="1" lang="cs-CZ" sz="3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http://www.cs.usna.edu/~qepcad/B/</a:t>
            </a:r>
            <a:br>
              <a:rPr sz="3200"/>
            </a:b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QEPCAD.htm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(obsahuje j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volné proměnné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17835" t="7609" r="17835" b="0"/>
          <a:stretch/>
        </p:blipFill>
        <p:spPr>
          <a:xfrm>
            <a:off x="3203640" y="836640"/>
            <a:ext cx="5554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68360" y="260280"/>
            <a:ext cx="82072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514"/>
                </a:solidFill>
                <a:latin typeface="Garamond"/>
              </a:rPr>
              <a:t>Quantifier Eli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514"/>
                </a:solidFill>
                <a:latin typeface="Garamond"/>
              </a:rPr>
              <a:t>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514"/>
                </a:solidFill>
                <a:latin typeface="Garamond"/>
              </a:rPr>
              <a:t>Elementary Algebra and Geome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514"/>
                </a:solidFill>
                <a:latin typeface="Garamond"/>
              </a:rPr>
              <a:t>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514"/>
                </a:solidFill>
                <a:latin typeface="Garamond"/>
              </a:rPr>
              <a:t>Partial Cylindrical Algebraic Decompos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514"/>
                </a:solidFill>
                <a:latin typeface="Garamond"/>
              </a:rPr>
              <a:t>Version B 1.8, 14 Jan 2003 by Hoon Hong (hhong@math.ncsu.edu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514"/>
                </a:solidFill>
                <a:latin typeface="Garamond"/>
              </a:rPr>
              <a:t>With contributions by: Christopher W. Brown, George 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514"/>
                </a:solidFill>
                <a:latin typeface="Garamond"/>
              </a:rPr>
              <a:t>Collins, Mark J. Encarnacion, Jeremy R. John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514"/>
                </a:solidFill>
                <a:latin typeface="Garamond"/>
              </a:rPr>
              <a:t>Werner Krandick, Richard Liska, Scott McCallu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514"/>
                </a:solidFill>
                <a:latin typeface="Garamond"/>
              </a:rPr>
              <a:t>Nicolas Robidoux, and Stanly Steinber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514"/>
                </a:solidFill>
                <a:latin typeface="Garamond"/>
              </a:rPr>
              <a:t>=============================</a:t>
            </a: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514"/>
                </a:solidFill>
                <a:latin typeface="Garamond"/>
              </a:rPr>
              <a:t>Enter an informal description  between '[' and ']':</a:t>
            </a:r>
            <a:br>
              <a:rPr sz="3200"/>
            </a:br>
            <a:r>
              <a:rPr b="1" lang="cs-CZ" sz="3200" spc="-1" strike="noStrike">
                <a:solidFill>
                  <a:srgbClr val="000514"/>
                </a:solidFill>
                <a:latin typeface="Garamond"/>
              </a:rPr>
              <a:t>[pokus]</a:t>
            </a:r>
            <a:br>
              <a:rPr sz="3200"/>
            </a:br>
            <a:r>
              <a:rPr b="1" lang="cs-CZ" sz="3200" spc="-1" strike="noStrike">
                <a:solidFill>
                  <a:srgbClr val="000514"/>
                </a:solidFill>
                <a:latin typeface="Garamond"/>
              </a:rPr>
              <a:t>Enter a variable list:</a:t>
            </a:r>
            <a:br>
              <a:rPr sz="3200"/>
            </a:br>
            <a:r>
              <a:rPr b="1" lang="cs-CZ" sz="3200" spc="-1" strike="noStrike">
                <a:solidFill>
                  <a:srgbClr val="000514"/>
                </a:solidFill>
                <a:latin typeface="Garamond"/>
              </a:rPr>
              <a:t>(p, q, x)</a:t>
            </a:r>
            <a:br>
              <a:rPr sz="3200"/>
            </a:br>
            <a:r>
              <a:rPr b="1" lang="cs-CZ" sz="3200" spc="-1" strike="noStrike">
                <a:solidFill>
                  <a:srgbClr val="000514"/>
                </a:solidFill>
                <a:latin typeface="Garamond"/>
              </a:rPr>
              <a:t>Enter the number of free variables:</a:t>
            </a:r>
            <a:br>
              <a:rPr sz="3200"/>
            </a:br>
            <a:r>
              <a:rPr b="1" lang="cs-CZ" sz="3200" spc="-1" strike="noStrike">
                <a:solidFill>
                  <a:srgbClr val="000514"/>
                </a:solidFill>
                <a:latin typeface="Garamond"/>
              </a:rPr>
              <a:t>2</a:t>
            </a:r>
            <a:br>
              <a:rPr sz="3200"/>
            </a:br>
            <a:r>
              <a:rPr b="1" lang="cs-CZ" sz="3200" spc="-1" strike="noStrike">
                <a:solidFill>
                  <a:srgbClr val="000514"/>
                </a:solidFill>
                <a:latin typeface="Garamond"/>
              </a:rPr>
              <a:t>Enter a prenex formula:</a:t>
            </a:r>
            <a:br>
              <a:rPr sz="3200"/>
            </a:br>
            <a:r>
              <a:rPr b="1" lang="cs-CZ" sz="3200" spc="-1" strike="noStrike">
                <a:solidFill>
                  <a:srgbClr val="000514"/>
                </a:solidFill>
                <a:latin typeface="Garamond"/>
              </a:rPr>
              <a:t>(Ex) [x^2 + p x + q = 0]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95280" y="476280"/>
            <a:ext cx="8207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514"/>
                </a:solidFill>
                <a:latin typeface="Garamond"/>
              </a:rPr>
              <a:t>Before Normalization 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514"/>
                </a:solidFill>
                <a:latin typeface="Garamond"/>
              </a:rPr>
              <a:t>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514"/>
                </a:solidFill>
                <a:latin typeface="Garamond"/>
              </a:rPr>
              <a:t>Before Projection 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514"/>
                </a:solidFill>
                <a:latin typeface="Garamond"/>
              </a:rPr>
              <a:t>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514"/>
                </a:solidFill>
                <a:latin typeface="Garamond"/>
              </a:rPr>
              <a:t>Before Choice 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514"/>
                </a:solidFill>
                <a:latin typeface="Garamond"/>
              </a:rPr>
              <a:t>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514"/>
                </a:solidFill>
                <a:latin typeface="Garamond"/>
              </a:rPr>
              <a:t>Before Solution 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514"/>
                </a:solidFill>
                <a:latin typeface="Garamond"/>
              </a:rPr>
              <a:t>solution-extension 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514"/>
                </a:solidFill>
                <a:latin typeface="Garamond"/>
              </a:rPr>
              <a:t>An equivalent quantifier-free formul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514"/>
                </a:solidFill>
                <a:latin typeface="Garamond"/>
              </a:rPr>
              <a:t>4 q - p^2 &lt;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QEPCAD - výhody a nevýhody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00"/>
                </a:solidFill>
                <a:latin typeface="Garamond"/>
              </a:rPr>
              <a:t>Lze jej stáhnout zdarm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00"/>
                </a:solidFill>
                <a:latin typeface="Garamond"/>
              </a:rPr>
              <a:t>Jde o „experimentální“ program zaměřený na eliminaci kvantifikátor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00"/>
                </a:solidFill>
                <a:latin typeface="Garamond"/>
              </a:rPr>
              <a:t>Má dokonce „zobecněné“ kvantifikátor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Garamond"/>
              </a:rPr>
              <a:t>E = "there exists"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Garamond"/>
              </a:rPr>
              <a:t>A = "for all"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Garamond"/>
              </a:rPr>
              <a:t>F = "for infinitely many"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Garamond"/>
              </a:rPr>
              <a:t>G = "for all but finitely many"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Garamond"/>
              </a:rPr>
              <a:t>C = "for a connected subset"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Garamond"/>
              </a:rPr>
              <a:t>X</a:t>
            </a:r>
            <a:r>
              <a:rPr b="1" i="1" lang="cs-CZ" sz="2800" spc="-1" strike="noStrike">
                <a:solidFill>
                  <a:srgbClr val="ff0000"/>
                </a:solidFill>
                <a:latin typeface="Garamond"/>
              </a:rPr>
              <a:t>k</a:t>
            </a:r>
            <a:r>
              <a:rPr b="1" lang="cs-CZ" sz="2800" spc="-1" strike="noStrike">
                <a:solidFill>
                  <a:srgbClr val="ff0000"/>
                </a:solidFill>
                <a:latin typeface="Garamond"/>
              </a:rPr>
              <a:t> = "for exactly </a:t>
            </a:r>
            <a:r>
              <a:rPr b="1" i="1" lang="cs-CZ" sz="2800" spc="-1" strike="noStrike">
                <a:solidFill>
                  <a:srgbClr val="ff0000"/>
                </a:solidFill>
                <a:latin typeface="Garamond"/>
              </a:rPr>
              <a:t>k</a:t>
            </a:r>
            <a:r>
              <a:rPr b="1" lang="cs-CZ" sz="2800" spc="-1" strike="noStrike">
                <a:solidFill>
                  <a:srgbClr val="ff0000"/>
                </a:solidFill>
                <a:latin typeface="Garamond"/>
              </a:rPr>
              <a:t> distinct values"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76280"/>
            <a:ext cx="82072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514"/>
                </a:solidFill>
                <a:latin typeface="Garamond"/>
              </a:rPr>
              <a:t>=========================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514"/>
                </a:solidFill>
                <a:latin typeface="Garamond"/>
              </a:rPr>
              <a:t>Before Normalization 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514"/>
                </a:solidFill>
                <a:latin typeface="Garamond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514"/>
                </a:solidFill>
                <a:latin typeface="Garamond"/>
              </a:rPr>
              <a:t>Before Projection (x) 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514"/>
                </a:solidFill>
                <a:latin typeface="Garamond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514"/>
                </a:solidFill>
                <a:latin typeface="Garamond"/>
              </a:rPr>
              <a:t>Before Choice 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514"/>
                </a:solidFill>
                <a:latin typeface="Garamond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514"/>
                </a:solidFill>
                <a:latin typeface="Garamond"/>
              </a:rPr>
              <a:t>Before Solution 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514"/>
                </a:solidFill>
                <a:latin typeface="Garamond"/>
              </a:rPr>
              <a:t>solution-extension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514"/>
                </a:solidFill>
                <a:latin typeface="Garamond"/>
              </a:rPr>
              <a:t>An equivalent quantifier-free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514"/>
                </a:solidFill>
                <a:latin typeface="Garamond"/>
              </a:rPr>
              <a:t>27 q^2 + 4 p^3 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0920" y="736560"/>
            <a:ext cx="86421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QEPCAD pracuje pod operačním systémem Linux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Garamond"/>
              </a:rPr>
              <a:t>Rigidní zápis formulí („nevezme“ podíly, odmocniny…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Eliminace kvantifikátorů a mnoho věcí s ní souvisejících je obsaženo v programovém balíku </a:t>
            </a:r>
            <a:r>
              <a:rPr b="1" lang="cs-CZ" sz="3200" spc="-1" strike="noStrike">
                <a:solidFill>
                  <a:srgbClr val="ff0000"/>
                </a:solidFill>
                <a:latin typeface="Garamond"/>
              </a:rPr>
              <a:t>Mathemati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Verze </a:t>
            </a:r>
            <a:r>
              <a:rPr b="1" lang="cs-CZ" sz="3200" spc="-1" strike="noStrike">
                <a:solidFill>
                  <a:srgbClr val="ff0000"/>
                </a:solidFill>
                <a:latin typeface="Garamond"/>
              </a:rPr>
              <a:t>6.0</a:t>
            </a: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: roste podpora počítačového dokazování, lze si vybrat obor, ve kterém jsou voleny proměnn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Spolupracující „balíky“ a utility, grafika atd.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x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cen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Reduce[ForAll [{x, y}, x^2 + y^2 &gt;= 0]]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Garamond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cs-CZ" sz="3200" spc="-1" strike="noStrike">
                <a:solidFill>
                  <a:srgbClr val="ffcc00"/>
                </a:solidFill>
                <a:latin typeface="Garamond"/>
              </a:rPr>
              <a:t>Reduce[ForAll [{x, y}, x^2 + y^2 &gt; 0]]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Garamond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aramond"/>
              </a:rPr>
              <a:t>Tarski – (R, 0, 1,+, . ,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&lt;</a:t>
            </a:r>
            <a:r>
              <a:rPr b="0" lang="cs-CZ" sz="3200" spc="-1" strike="noStrike">
                <a:solidFill>
                  <a:srgbClr val="ff0000"/>
                </a:solidFill>
                <a:latin typeface="Garamond"/>
              </a:rPr>
              <a:t>) je úplná teorie 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Netradiční pohled na učivo o limitách – obtížn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11280" y="5157720"/>
          <a:ext cx="247644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157720"/>
                    <a:ext cx="24764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1692360" y="649440"/>
          <a:ext cx="5543640" cy="587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649440"/>
                    <a:ext cx="554364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68120" y="1125360"/>
            <a:ext cx="880596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517680" y="1417680"/>
            <a:ext cx="810864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68120" y="1063800"/>
            <a:ext cx="880596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46160" y="1187280"/>
            <a:ext cx="885168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46160" y="1187280"/>
            <a:ext cx="8851680" cy="44895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192240" y="946080"/>
            <a:ext cx="87595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46160" y="1187280"/>
            <a:ext cx="8851680" cy="44895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92240" y="946080"/>
            <a:ext cx="8759520" cy="49719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2560" y="816120"/>
            <a:ext cx="903744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46160" y="1187280"/>
            <a:ext cx="8851680" cy="44895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92240" y="946080"/>
            <a:ext cx="87595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837640" cy="60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46160" y="1187280"/>
            <a:ext cx="8851680" cy="44895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92240" y="946080"/>
            <a:ext cx="8759520" cy="49719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52560" y="816120"/>
            <a:ext cx="903744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46160" y="1187280"/>
            <a:ext cx="8851680" cy="44895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92240" y="946080"/>
            <a:ext cx="8759520" cy="49719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52560" y="816120"/>
            <a:ext cx="903744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46160" y="917640"/>
            <a:ext cx="8851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85720" y="1581120"/>
            <a:ext cx="797076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22400" y="674640"/>
            <a:ext cx="889776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50920" y="1187280"/>
            <a:ext cx="85690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704000" cy="60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0240" y="2262240"/>
            <a:ext cx="86454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98280" y="523800"/>
            <a:ext cx="894564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192240"/>
            <a:ext cx="842472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19:13:07Z</dcterms:created>
  <dc:creator>horajar</dc:creator>
  <dc:description/>
  <dc:language>en-US</dc:language>
  <cp:lastModifiedBy>horajar</cp:lastModifiedBy>
  <dcterms:modified xsi:type="dcterms:W3CDTF">2008-08-17T14:20:42Z</dcterms:modified>
  <cp:revision>15</cp:revision>
  <dc:subject/>
  <dc:title>Snímek 1</dc:title>
</cp:coreProperties>
</file>